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4E96-45FE-4971-99EA-8071B8283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F1E0-EA9F-4235-9D77-9B15DDD1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B1669-6DC5-41B0-B3AE-AF839C8C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3FE86-6477-493D-B101-7E983F2B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3D3B2-94E0-4D02-9FA8-2451EF0A6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35F27-68CE-489C-8126-19481109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96C5D-F035-47E0-BDC6-8CCED0514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D05A3-7665-4195-837D-5EA16E7C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96818-C01B-4AD7-B8D4-39ADC87B7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B295-D9CD-4851-8DD7-002AE4F4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84E8-AA24-4D63-805D-B31378F3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912A-1A7A-4D3A-9F25-9407A076A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7B7D-C6F8-4145-912C-61094003F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491920"/>
            <a:ext cx="46800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humán szexualitás </a:t>
            </a:r>
            <a:br>
              <a:rPr sz="2800"/>
            </a:br>
            <a:r>
              <a:rPr b="1" lang="en-GB" sz="2800" spc="-1" strike="noStrike">
                <a:solidFill>
                  <a:srgbClr val="000000"/>
                </a:solidFill>
                <a:latin typeface="Times New Roman"/>
              </a:rPr>
              <a:t>evolúciója</a:t>
            </a:r>
            <a:r>
              <a:rPr b="0" lang="en-GB" sz="4400" spc="-1" strike="noStrike">
                <a:solidFill>
                  <a:srgbClr val="ffffff"/>
                </a:solidFill>
                <a:latin typeface="Times New Roman"/>
              </a:rPr>
              <a:t> </a:t>
            </a:r>
            <a:r>
              <a:rPr b="0" lang="hu-HU" sz="4400" spc="-1" strike="noStrike">
                <a:solidFill>
                  <a:srgbClr val="ffffff"/>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60"/>
            <a:ext cx="9144000" cy="61722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z emberi kultúrák 89%-a poligám rendszerû (de sokszor csak pár tehetõs tagja az, a többi monogám), és csak 16%-uk monogám</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De a monogám kapcsolatnak különös jelentõsége van</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Ivadékgondozás fontossága, ideje és költsége nagy</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z újszülött fejletlen, nagy, sok és intenzív törõdést igényel, az apa gondoskodása nagyon megnöveli a túlélési esélyei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lõnyös a hatékony monogám kapcsolat. A hûség, a kooperáció fontossá válik, a kötõdés szerepe nõ</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zoros párkapcsolatot elõsegítõ számos mechanizmus kifejlõdik</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mbernõ elrejti a fogékony periódusait, és minden hónapban van ilyen szakaszba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ktus hosszú, örömteli esemény,  orgazmus is ritka a fajok közöt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Nemi jellegek fejlettek, nagy vizuális ingert jelentenek</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Mindezek a tényezõk elõsegítik a párok hosszú idejû kötõdésé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ormonálisan anya-gyermek viszony kibõvülés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 párkapcsolat általában két szakaszú, a vonzódás és kötõdés fázi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Fenil-etil-amin és opiát endorfino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mber alapvetõen szeriálisan monogá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kb. négy éves gyermekszülési ciklu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ormonális kötõmechanizmusok ehhez alkalmazkodhattak</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 mai válásokban is nyoma v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0" y="-360"/>
            <a:ext cx="8604360" cy="108756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Szexuális taktikák és preferenciák az embereknél</a:t>
            </a:r>
            <a:br>
              <a:rPr sz="2800"/>
            </a:br>
            <a:endParaRPr b="0" lang="en-US" sz="26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539640" y="836640"/>
            <a:ext cx="7993080" cy="539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5949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nemi interakciók itt is ugyanúgy szelekciós nyomásokat generálnak, a kooperáció és konfliktus együtthatásai alakítják ki az általános mintázatokat, melyek kultúrától függetlenül hasonlóak.</a:t>
            </a:r>
            <a:r>
              <a:rPr b="1" lang="en-GB" sz="2200" spc="-1" strike="noStrike">
                <a:solidFill>
                  <a:srgbClr val="000000"/>
                </a:solidFill>
                <a:latin typeface="Times New Roman"/>
              </a:rPr>
              <a:t> </a:t>
            </a:r>
            <a:br>
              <a:rPr sz="2200"/>
            </a:br>
            <a:r>
              <a:rPr b="1" lang="en-GB" sz="2200" spc="-1" strike="noStrike">
                <a:solidFill>
                  <a:srgbClr val="000000"/>
                </a:solidFill>
                <a:latin typeface="Times New Roman"/>
              </a:rPr>
              <a:t> </a:t>
            </a:r>
            <a:endParaRPr b="0" lang="en-US" sz="2200" spc="-1" strike="noStrike">
              <a:solidFill>
                <a:srgbClr val="000000"/>
              </a:solidFill>
              <a:latin typeface="Times New Roman"/>
            </a:endParaRPr>
          </a:p>
          <a:p>
            <a:pPr marL="380880" indent="-380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1. </a:t>
            </a:r>
            <a:r>
              <a:rPr b="1" lang="en-GB" sz="2400" spc="-1" strike="noStrike">
                <a:solidFill>
                  <a:srgbClr val="000000"/>
                </a:solidFill>
                <a:latin typeface="Times New Roman"/>
              </a:rPr>
              <a:t> Intraszexuális versengés</a:t>
            </a:r>
            <a:r>
              <a:rPr b="0" lang="en-GB"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Korai emberi társadalmakban a hímek enyhén (1.3:1) túlsúlyban</a:t>
            </a:r>
            <a:r>
              <a:rPr b="0" lang="hu-HU" sz="2200" spc="-1" strike="noStrike">
                <a:solidFill>
                  <a:srgbClr val="000000"/>
                </a:solidFill>
                <a:latin typeface="Times New Roman"/>
              </a:rPr>
              <a:t> lehettek</a:t>
            </a:r>
            <a:r>
              <a:rPr b="0" lang="en-GB" sz="2200" spc="-1" strike="noStrike">
                <a:solidFill>
                  <a:srgbClr val="000000"/>
                </a:solidFill>
                <a:latin typeface="Times New Roman"/>
              </a:rPr>
              <a:t>, a sikeresebb vadászathoz vagy védekezéshez volt szükséges.</a:t>
            </a:r>
            <a:endParaRPr b="0" lang="en-US" sz="22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gy átlagos nõ szinte egész (rövid) életében terhes vagy szoptatós volt, ráadásul havonta csak pár napig voltak õk is fertilisek.</a:t>
            </a: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miatt OSR erõsen a férfiak irányába eltolva, nõk igen komoly limitáló tényezõt jelentettek a szaporodásban.</a:t>
            </a:r>
            <a:endParaRPr b="0" lang="en-US" sz="22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Nagyon intenzív hím-hím versengéshez</a:t>
            </a:r>
            <a:r>
              <a:rPr b="0" lang="hu-HU" sz="2200" spc="-1" strike="noStrike">
                <a:solidFill>
                  <a:srgbClr val="000000"/>
                </a:solidFill>
                <a:latin typeface="Times New Roman"/>
              </a:rPr>
              <a:t> vez</a:t>
            </a:r>
            <a:r>
              <a:rPr b="0" lang="en-GB" sz="2200" spc="-1" strike="noStrike">
                <a:solidFill>
                  <a:srgbClr val="000000"/>
                </a:solidFill>
                <a:latin typeface="Times New Roman"/>
              </a:rPr>
              <a:t>ethetett.</a:t>
            </a:r>
            <a:endParaRPr b="0" lang="en-US" sz="2200" spc="-1" strike="noStrike">
              <a:solidFill>
                <a:srgbClr val="000000"/>
              </a:solidFill>
              <a:latin typeface="Times New Roman"/>
            </a:endParaRPr>
          </a:p>
          <a:p>
            <a:pPr marL="380880" indent="-380880">
              <a:lnSpc>
                <a:spcPct val="9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permakompetíció?</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rPr>
              <a:t>2.  Interszexuális mechanizmusok (f</a:t>
            </a:r>
            <a:r>
              <a:rPr b="1" lang="en-GB" sz="2600" spc="-1" strike="noStrike">
                <a:solidFill>
                  <a:srgbClr val="000000"/>
                </a:solidFill>
                <a:latin typeface="Times New Roman"/>
              </a:rPr>
              <a:t>emale choice</a:t>
            </a:r>
            <a:r>
              <a:rPr b="1" lang="hu-HU" sz="2600" spc="-1" strike="noStrike">
                <a:solidFill>
                  <a:srgbClr val="000000"/>
                </a:solidFill>
                <a:latin typeface="Times New Roman"/>
              </a:rPr>
              <a:t>)</a:t>
            </a:r>
            <a:r>
              <a:rPr b="0" lang="en-GB" sz="2600" spc="-1" strike="noStrike">
                <a:solidFill>
                  <a:srgbClr val="000000"/>
                </a:solidFill>
                <a:latin typeface="Times New Roman"/>
              </a:rPr>
              <a:t> </a:t>
            </a:r>
            <a:br>
              <a:rPr sz="2600"/>
            </a:b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	</a:t>
            </a:r>
            <a:r>
              <a:rPr b="1" lang="hu-HU" sz="2200" spc="-1" strike="noStrike">
                <a:solidFill>
                  <a:srgbClr val="000000"/>
                </a:solidFill>
                <a:latin typeface="Times New Roman"/>
              </a:rPr>
              <a:t>Direkt haszon választás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z embernél a szülõi befektetés fontossága megnõ, és a hím is lehet hatékony szülõ.</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nagy férfiarány és fontos szülõi hozzájárulása miatt fejlett </a:t>
            </a:r>
            <a:r>
              <a:rPr b="0" lang="hu-HU" sz="2200" spc="-1" strike="noStrike">
                <a:solidFill>
                  <a:srgbClr val="000000"/>
                </a:solidFill>
                <a:latin typeface="Times New Roman"/>
              </a:rPr>
              <a:t>hölgyválasz</a:t>
            </a:r>
            <a:r>
              <a:rPr b="0" lang="en-GB" sz="2200" spc="-1" strike="noStrike">
                <a:solidFill>
                  <a:srgbClr val="000000"/>
                </a:solidFill>
                <a:latin typeface="Times New Roman"/>
              </a:rPr>
              <a:t> alakulhatott ki, elsõsorban a jó apai tulajdonságokkal bíró egyedek felé.</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korai embernél ezek elsõsorban a jó, ügyes, nagy zsákmányt szerezni képes vadászok lehettek, a késõbbiekben, az életmód változásával a tehetõs, jó forrásokkal (föld, állatok) bíró, magas státuszú férfia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Tehetõs hímet választva nõ-e nõstény szap. sikere?</a:t>
            </a: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 paraguayi Ache törzsben a sikeres vadászok gyerekei nagyobb valószínûséggel élik meg a féléves kort, mint a rosszakéi.</a:t>
            </a: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ok kultúrában a férfi tehetõssége (földterületnek nagysága, nyájméret) korrelál feleségei szaporodási sikerével. Egy tehetõs poligín férj jobban segítheti x-edik felesége gyerekének túlélést, mint a szegény monogám az egyetlen asszonyét (pl. muszlim többnejűség).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Van-e pszichológiai preferencia a gazdag férfiakra?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z  Ache törzsben a jó vadászoknak több páron kívüli kapcsolatuk és gyerekük van, ami jelzi, hogy vonzó a több „zsákmányt” szerzõ (ügyes, gazdag) férfi. </a:t>
            </a:r>
            <a:br>
              <a:rPr sz="2000"/>
            </a:b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 preferenciák máig megõrzõdtek. Hirdetések: nõk tehetõsséget és a státuszt értékelik, és fiatalságukat, attraktivitásukat hangsúlyozzák. Férfiak fordítva.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Ma a szaporodási siker nem elsõsorban az utódok számától függ, így nem is fedezhetõ fel a tendencia, hogy a tehetõsebbeknek több gyerekük lenne, éppen ellenkezõleg, az utódok száma csökken a gazdagsággal. </a:t>
            </a:r>
            <a:br>
              <a:rPr sz="2200"/>
            </a:b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gy kanadai felmérés szerint viszont a kopulációk száma (potenciális fogamzások száma) korrelál a vagyoni helyzettel, fõleg a nem házasoknál, így a régi mechanizmus nyomai ma is felfedezhetõk.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lternatív hipotézisként felvetődőtt, hogy mindenki olyan párt keres, mint amilyennek magát gondolja (tehetős tehetőst, szexuálisan vonzó ugyanilyet, stb.)</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USA, 1000 fős kérdőív alapján</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4" name="" descr=""/>
          <p:cNvPicPr/>
          <p:nvPr/>
        </p:nvPicPr>
        <p:blipFill>
          <a:blip r:embed="rId2">
            <a:lum contrast="-12000"/>
          </a:blip>
          <a:stretch/>
        </p:blipFill>
        <p:spPr>
          <a:xfrm>
            <a:off x="1523880" y="0"/>
            <a:ext cx="616752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635280" y="3035160"/>
            <a:ext cx="5508720" cy="3822840"/>
          </a:xfrm>
          <a:prstGeom prst="rect">
            <a:avLst/>
          </a:prstGeom>
          <a:ln w="0">
            <a:noFill/>
          </a:ln>
        </p:spPr>
      </p:pic>
      <p:sp>
        <p:nvSpPr>
          <p:cNvPr id="66"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Indirekt haszon választása</a:t>
            </a:r>
            <a:endParaRPr b="0" lang="en-US" sz="2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másodlagos nemi jellege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jó géne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indikátor mechanizmuso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elfutó szelekció?</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464080" y="0"/>
            <a:ext cx="3679920" cy="5040360"/>
          </a:xfrm>
          <a:prstGeom prst="rect">
            <a:avLst/>
          </a:prstGeom>
          <a:ln w="0">
            <a:noFill/>
          </a:ln>
        </p:spPr>
      </p:pic>
      <p:sp>
        <p:nvSpPr>
          <p:cNvPr id="68" name="PlaceHolder 1"/>
          <p:cNvSpPr>
            <a:spLocks noGrp="1"/>
          </p:cNvSpPr>
          <p:nvPr>
            <p:ph/>
          </p:nvPr>
        </p:nvSpPr>
        <p:spPr>
          <a:xfrm>
            <a:off x="-360" y="0"/>
            <a:ext cx="7667640" cy="630864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t>
            </a:r>
            <a:r>
              <a:rPr b="0" lang="hu-HU" sz="2200" spc="-1" strike="noStrike">
                <a:solidFill>
                  <a:srgbClr val="000000"/>
                </a:solidFill>
                <a:latin typeface="Times New Roman"/>
              </a:rPr>
              <a:t>jóképűség”</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zimmetri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kísérletek:</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rc szépsége és spermiumminőség (morfológia, motilitás) korrelá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zimmetrikusabb férfiak illatát jobbnak találták a fogékony nő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érfiaknak leginkább a 0,7 körüli csípõ/derék arány, a nagy, szimmetrikus mellek, a kis orr, a telt ajak a legvonzóbb tulajdonságo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zen tulajdonságok fertilitást jeleznek, kifejlõdésük magas ösztrogénszintet, megfelelõ fejlõdési stabilitást, jó immunitást feltételez.</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ertilis, nagy reproduktív potenciálú nõ kell, aki fiatal, tehát még sok reproduktív éve van.</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férfi életkor elõrehaladtával egyre nõ a korkülönbség a preferált nõhöz képest. 25 éves </a:t>
            </a:r>
            <a:r>
              <a:rPr b="0" lang="hu-HU" sz="2200" spc="-1" strike="noStrike">
                <a:solidFill>
                  <a:srgbClr val="000000"/>
                </a:solidFill>
                <a:latin typeface="Times New Roman"/>
              </a:rPr>
              <a:t>hím a</a:t>
            </a:r>
            <a:r>
              <a:rPr b="0" lang="en-GB" sz="2200" spc="-1" strike="noStrike">
                <a:solidFill>
                  <a:srgbClr val="000000"/>
                </a:solidFill>
                <a:latin typeface="Times New Roman"/>
              </a:rPr>
              <a:t> plusz-mínusz öt év idõs lányokat választja, egy hatvan éves ember már 10-15 évvel fiatalabb nõke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Nõknek a fertilitás nem annyira fontos a férfiban, az életkorkülönbség a mai házasságoknál is megmutatkozi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0" name="" descr=""/>
          <p:cNvPicPr/>
          <p:nvPr/>
        </p:nvPicPr>
        <p:blipFill>
          <a:blip r:embed="rId2">
            <a:lum contrast="-12000"/>
          </a:blip>
          <a:stretch/>
        </p:blipFill>
        <p:spPr>
          <a:xfrm>
            <a:off x="826920" y="765000"/>
            <a:ext cx="7596360" cy="5681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360"/>
            <a:ext cx="9144000" cy="55897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ea typeface="Times New Roman"/>
              </a:rPr>
              <a:t>Az</a:t>
            </a:r>
            <a:r>
              <a:rPr b="1" lang="en-GB" sz="2600" spc="-1" strike="noStrike">
                <a:solidFill>
                  <a:srgbClr val="000000"/>
                </a:solidFill>
                <a:latin typeface="Times New Roman"/>
                <a:ea typeface="Times New Roman"/>
              </a:rPr>
              <a:t> emberi viselkedés sokfélesége és a kultúrák diverzitása</a:t>
            </a: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Állatok képesek optimális döntéseket hozni, melyek a leginkább elõnyösek a számukra az adott helyzetben.</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z összes faj közül az emberi viselkedés a legflexibilisebb, legplasztikusabb, itt jut a legtöbb szerephez a körülményekhez való alkalmazkodásban az adaptív, rövid távú döntés.</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Humán viselkedésben nagy érdeklõdés, sokféle nézõpont, sokféle diszciplína.</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Darwini nézõpontból a szociobiológia és az evolúciós pszichológia tudománya vizsgálja, ezek próbálják az evolúciós, adaptációs mechanizmusokat ennél a fajnál értelmezni.</a:t>
            </a:r>
            <a:endParaRPr b="0" lang="en-US" sz="2200" spc="-1" strike="noStrike">
              <a:solidFill>
                <a:srgbClr val="000000"/>
              </a:solidFill>
              <a:latin typeface="Times New Roman"/>
            </a:endParaRPr>
          </a:p>
        </p:txBody>
      </p:sp>
      <p:pic>
        <p:nvPicPr>
          <p:cNvPr id="43" name="" descr=""/>
          <p:cNvPicPr/>
          <p:nvPr/>
        </p:nvPicPr>
        <p:blipFill>
          <a:blip r:embed="rId2"/>
          <a:stretch/>
        </p:blipFill>
        <p:spPr>
          <a:xfrm>
            <a:off x="6035760" y="1484280"/>
            <a:ext cx="3108240" cy="537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60" y="0"/>
            <a:ext cx="3708360" cy="7272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rPr>
              <a:t>Szexuális </a:t>
            </a:r>
            <a:r>
              <a:rPr b="1" lang="en-GB" sz="2600" spc="-1" strike="noStrike">
                <a:solidFill>
                  <a:srgbClr val="000000"/>
                </a:solidFill>
                <a:latin typeface="Times New Roman"/>
              </a:rPr>
              <a:t>konfliktus</a:t>
            </a:r>
            <a:endParaRPr b="0" lang="en-US" sz="2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2"/>
          <a:stretch/>
        </p:blipFill>
        <p:spPr>
          <a:xfrm>
            <a:off x="826920" y="692280"/>
            <a:ext cx="6697800" cy="5813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0" y="228600"/>
            <a:ext cx="8675640" cy="5456520"/>
          </a:xfrm>
          <a:prstGeom prst="rect">
            <a:avLst/>
          </a:prstGeom>
          <a:noFill/>
          <a:ln w="0">
            <a:noFill/>
          </a:ln>
        </p:spPr>
        <p:style>
          <a:lnRef idx="0"/>
          <a:fillRef idx="0"/>
          <a:effectRef idx="0"/>
          <a:fontRef idx="minor"/>
        </p:style>
        <p:txBody>
          <a:bodyPr lIns="90000" rIns="90000" tIns="46800" bIns="46800" anchor="t">
            <a:spAutoFit/>
          </a:bodyPr>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nő (tehetős hímmel is) csak akkor növeli hatékonyan a fitnessét, ha tartósan biztosítja párja apai befektetését.</a:t>
            </a: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Két szülő befektetése különböző, ezért más a poligínia és a páron kívüli terhesség ára is.</a:t>
            </a: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hím </a:t>
            </a:r>
            <a:r>
              <a:rPr b="0" lang="hu-HU" sz="2200" spc="-1" strike="noStrike">
                <a:solidFill>
                  <a:srgbClr val="000000"/>
                </a:solidFill>
                <a:latin typeface="Times New Roman"/>
              </a:rPr>
              <a:t>egy </a:t>
            </a:r>
            <a:r>
              <a:rPr b="0" lang="en-GB" sz="2200" spc="-1" strike="noStrike">
                <a:solidFill>
                  <a:srgbClr val="000000"/>
                </a:solidFill>
                <a:latin typeface="Times New Roman"/>
              </a:rPr>
              <a:t>EPC gyermekkel olcsón növelheti sikerét, egy másik család férfija viseli a terheket. A nők nem kerülhetik el az EPC árát, általánosságban hűségesebbek is.</a:t>
            </a: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628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Hímnek ez a stratégia nagyon előnyös (mint a legtöbb állatnál) ezért pszichológiailag is a változatosság keresésére és sok kopulációra van tervezve (még ma is).</a:t>
            </a:r>
            <a:endParaRPr b="0" lang="en-US" sz="2200" spc="-1" strike="noStrike">
              <a:solidFill>
                <a:srgbClr val="000000"/>
              </a:solidFill>
              <a:latin typeface="Times New Roman"/>
            </a:endParaRPr>
          </a:p>
        </p:txBody>
      </p:sp>
      <p:sp>
        <p:nvSpPr>
          <p:cNvPr id="74" name=""/>
          <p:cNvSpPr/>
          <p:nvPr/>
        </p:nvSpPr>
        <p:spPr>
          <a:xfrm>
            <a:off x="0" y="3673440"/>
            <a:ext cx="9144000" cy="360"/>
          </a:xfrm>
          <a:prstGeom prst="rect">
            <a:avLst/>
          </a:prstGeom>
          <a:noFill/>
          <a:ln w="0">
            <a:noFill/>
          </a:ln>
        </p:spPr>
        <p:style>
          <a:lnRef idx="0"/>
          <a:fillRef idx="0"/>
          <a:effectRef idx="0"/>
          <a:fontRef idx="minor"/>
        </p:style>
        <p:txBody>
          <a:bodyPr lIns="228240" rIns="90000" tIns="-46440" bIns="-46440" anchor="t">
            <a:spAutoFit/>
          </a:bodyPr>
          <a:p>
            <a:endParaRPr b="0" lang="en-US" sz="2400" spc="-1" strike="noStrike">
              <a:solidFill>
                <a:srgbClr val="000000"/>
              </a:solidFill>
              <a:latin typeface="Times New Roman"/>
            </a:endParaRPr>
          </a:p>
        </p:txBody>
      </p:sp>
      <p:sp>
        <p:nvSpPr>
          <p:cNvPr id="75" name=""/>
          <p:cNvSpPr/>
          <p:nvPr/>
        </p:nvSpPr>
        <p:spPr>
          <a:xfrm>
            <a:off x="0" y="3673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6" name=""/>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férfiak sokszor fizetnek az aktusért és pornóújságokért, nők nagyon ritkán</a:t>
            </a:r>
            <a:r>
              <a:rPr b="0" lang="hu-HU" sz="2200" spc="-1" strike="noStrike">
                <a:solidFill>
                  <a:srgbClr val="000000"/>
                </a:solidFill>
                <a:latin typeface="Times New Roman"/>
              </a:rPr>
              <a:t>,</a:t>
            </a:r>
            <a:r>
              <a:rPr b="0" lang="en-GB" sz="2200" spc="-1" strike="noStrike">
                <a:solidFill>
                  <a:srgbClr val="000000"/>
                </a:solidFill>
                <a:latin typeface="Times New Roman"/>
              </a:rPr>
              <a:t> </a:t>
            </a:r>
            <a:r>
              <a:rPr b="0" lang="hu-HU" sz="2200" spc="-1" strike="noStrike">
                <a:solidFill>
                  <a:srgbClr val="000000"/>
                </a:solidFill>
                <a:latin typeface="Times New Roman"/>
              </a:rPr>
              <a:t>a </a:t>
            </a:r>
            <a:r>
              <a:rPr b="0" lang="en-GB" sz="2200" spc="-1" strike="noStrike">
                <a:solidFill>
                  <a:srgbClr val="000000"/>
                </a:solidFill>
                <a:latin typeface="Times New Roman"/>
              </a:rPr>
              <a:t>pornóipart és a prostitúciót lényegében </a:t>
            </a:r>
            <a:r>
              <a:rPr b="0" lang="hu-HU" sz="2200" spc="-1" strike="noStrike">
                <a:solidFill>
                  <a:srgbClr val="000000"/>
                </a:solidFill>
                <a:latin typeface="Times New Roman"/>
              </a:rPr>
              <a:t>ők</a:t>
            </a:r>
            <a:r>
              <a:rPr b="0" lang="en-GB" sz="2200" spc="-1" strike="noStrike">
                <a:solidFill>
                  <a:srgbClr val="000000"/>
                </a:solidFill>
                <a:latin typeface="Times New Roman"/>
              </a:rPr>
              <a:t> tartják el. </a:t>
            </a:r>
            <a:endParaRPr b="0" lang="en-US" sz="2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Férfiak</a:t>
            </a:r>
            <a:r>
              <a:rPr b="0" lang="en-GB" sz="2200" spc="-1" strike="noStrike">
                <a:solidFill>
                  <a:srgbClr val="000000"/>
                </a:solidFill>
                <a:latin typeface="Times New Roman"/>
              </a:rPr>
              <a:t> sokkal inkább igénylik partnereik változatosságát, ami még homoszexuálisoknál is megvan. </a:t>
            </a:r>
            <a:endParaRPr b="0" lang="en-US" sz="2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érfiak adott időszak alatt több nővel és rövidebb ismeretség után bújnának ágyba. A nőknél ez a változatosság-keresés </a:t>
            </a:r>
            <a:r>
              <a:rPr b="0" lang="hu-HU" sz="2200" spc="-1" strike="noStrike">
                <a:solidFill>
                  <a:srgbClr val="000000"/>
                </a:solidFill>
                <a:latin typeface="Times New Roman"/>
              </a:rPr>
              <a:t>kisebb.</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leszbikus lányok kapcsolataikban sokkal inkább hosszú távra terveznek, míg a férfiak sűrűn váltják partnereike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partner intelligenciájára vonatkozó kívánalmak is eltérőek. Míg a tartós kapcsolatra mindkét nem magasra rakja a mércét, rövid távra a férfiak jóval lejjebb adják a szintet a partner IQ-jában, mint a nő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8" name="" descr=""/>
          <p:cNvPicPr/>
          <p:nvPr/>
        </p:nvPicPr>
        <p:blipFill>
          <a:blip r:embed="rId2">
            <a:lum contrast="-24000"/>
          </a:blip>
          <a:stretch/>
        </p:blipFill>
        <p:spPr>
          <a:xfrm>
            <a:off x="250920" y="476280"/>
            <a:ext cx="6095880" cy="5429160"/>
          </a:xfrm>
          <a:prstGeom prst="rect">
            <a:avLst/>
          </a:prstGeom>
          <a:ln w="0">
            <a:noFill/>
          </a:ln>
        </p:spPr>
      </p:pic>
      <p:pic>
        <p:nvPicPr>
          <p:cNvPr id="79" name="" descr=""/>
          <p:cNvPicPr/>
          <p:nvPr/>
        </p:nvPicPr>
        <p:blipFill>
          <a:blip r:embed="rId3">
            <a:lum contrast="-24000"/>
          </a:blip>
          <a:stretch/>
        </p:blipFill>
        <p:spPr>
          <a:xfrm>
            <a:off x="3635280" y="0"/>
            <a:ext cx="471348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8"/>
                                        </p:tgtEl>
                                        <p:attrNameLst>
                                          <p:attrName>style.visibility</p:attrName>
                                        </p:attrNameLst>
                                      </p:cBhvr>
                                      <p:to>
                                        <p:strVal val="visible"/>
                                      </p:to>
                                    </p:set>
                                  </p:childTnLst>
                                </p:cTn>
                              </p:par>
                              <p:set>
                                <p:cBhvr>
                                  <p:cTn id="45"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2520" y="-50760"/>
            <a:ext cx="239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mi erőszak</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1619280" y="692280"/>
            <a:ext cx="5460840" cy="58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	</a:t>
            </a:r>
            <a:r>
              <a:rPr b="1" lang="en-GB" sz="2200" spc="-1" strike="noStrike">
                <a:solidFill>
                  <a:srgbClr val="000000"/>
                </a:solidFill>
                <a:latin typeface="Times New Roman"/>
              </a:rPr>
              <a:t>Szinte minden kultúrában előfordul ez a jelenség, annak ellenére, hogy mindenhol szigorúan büntetik. </a:t>
            </a:r>
            <a:r>
              <a:rPr b="1" lang="hu-HU" sz="2200" spc="-1" strike="noStrike">
                <a:solidFill>
                  <a:srgbClr val="000000"/>
                </a:solidFill>
                <a:latin typeface="Times New Roman"/>
              </a:rPr>
              <a:t>T</a:t>
            </a:r>
            <a:r>
              <a:rPr b="1" lang="en-GB" sz="2200" spc="-1" strike="noStrike">
                <a:solidFill>
                  <a:srgbClr val="000000"/>
                </a:solidFill>
                <a:latin typeface="Times New Roman"/>
              </a:rPr>
              <a:t>öbbféle hipotézist felvetettek:</a:t>
            </a:r>
            <a:endParaRPr b="0" lang="en-US" sz="2200" spc="-1" strike="noStrike">
              <a:solidFill>
                <a:srgbClr val="000000"/>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z szexuális tartalomtól mentes, tisztán erőszakos tett,</a:t>
            </a:r>
            <a:r>
              <a:rPr b="0" lang="hu-HU" sz="2200" spc="-1" strike="noStrike">
                <a:solidFill>
                  <a:srgbClr val="000000"/>
                </a:solidFill>
                <a:latin typeface="Times New Roman"/>
              </a:rPr>
              <a:t> </a:t>
            </a:r>
            <a:r>
              <a:rPr b="0" lang="en-GB" sz="2200" spc="-1" strike="noStrike">
                <a:solidFill>
                  <a:srgbClr val="000000"/>
                </a:solidFill>
                <a:latin typeface="Times New Roman"/>
              </a:rPr>
              <a:t> kollektív</a:t>
            </a:r>
            <a:r>
              <a:rPr b="0" lang="hu-HU" sz="2200" spc="-1" strike="noStrike">
                <a:solidFill>
                  <a:srgbClr val="000000"/>
                </a:solidFill>
                <a:latin typeface="Times New Roman"/>
              </a:rPr>
              <a:t>  </a:t>
            </a:r>
            <a:r>
              <a:rPr b="0" lang="en-GB" sz="2200" spc="-1" strike="noStrike">
                <a:solidFill>
                  <a:srgbClr val="000000"/>
                </a:solidFill>
                <a:latin typeface="Times New Roman"/>
              </a:rPr>
              <a:t>bünte</a:t>
            </a:r>
            <a:r>
              <a:rPr b="0" lang="hu-HU" sz="2200" spc="-1" strike="noStrike">
                <a:solidFill>
                  <a:srgbClr val="000000"/>
                </a:solidFill>
                <a:latin typeface="Times New Roman"/>
              </a:rPr>
              <a:t>tése</a:t>
            </a:r>
            <a:r>
              <a:rPr b="0" lang="en-GB" sz="2200" spc="-1" strike="noStrike">
                <a:solidFill>
                  <a:srgbClr val="000000"/>
                </a:solidFill>
                <a:latin typeface="Times New Roman"/>
              </a:rPr>
              <a:t> a nő</a:t>
            </a:r>
            <a:r>
              <a:rPr b="0" lang="hu-HU" sz="2200" spc="-1" strike="noStrike">
                <a:solidFill>
                  <a:srgbClr val="000000"/>
                </a:solidFill>
                <a:latin typeface="Times New Roman"/>
              </a:rPr>
              <a:t>i nemnek. </a:t>
            </a:r>
            <a:endParaRPr b="0" lang="en-US" sz="22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ltételezi, hogy az áldozatok nagy státuszú, elismert és hatalommal bíró asszonyok. </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a:t>
            </a:r>
            <a:r>
              <a:rPr b="0" lang="en-GB" sz="2200" spc="-1" strike="noStrike">
                <a:solidFill>
                  <a:srgbClr val="000000"/>
                </a:solidFill>
                <a:latin typeface="Times New Roman"/>
              </a:rPr>
              <a:t>daptív viselkedés</a:t>
            </a:r>
            <a:r>
              <a:rPr b="0" lang="hu-HU" sz="2200" spc="-1" strike="noStrike">
                <a:solidFill>
                  <a:srgbClr val="000000"/>
                </a:solidFill>
                <a:latin typeface="Times New Roman"/>
              </a:rPr>
              <a:t>forma</a:t>
            </a:r>
            <a:r>
              <a:rPr b="0" lang="en-GB" sz="2200" spc="-1" strike="noStrike">
                <a:solidFill>
                  <a:srgbClr val="000000"/>
                </a:solidFill>
                <a:latin typeface="Times New Roman"/>
              </a:rPr>
              <a:t>, utódot eredményez. Sok állatfajnál van ilyen, egyedek, akik nem tudnak máshogy párhoz jutni. </a:t>
            </a:r>
            <a:r>
              <a:rPr b="0" lang="hu-HU" sz="2200" spc="-1" strike="noStrike">
                <a:solidFill>
                  <a:srgbClr val="000000"/>
                </a:solidFill>
                <a:latin typeface="Times New Roman"/>
              </a:rPr>
              <a:t>(Alternatív párzási taktika)</a:t>
            </a:r>
            <a:endParaRPr b="0" lang="en-US" sz="22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z esetben inkább a fiatal, fertilis lányoknak a célpontnak lenni. </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z is lehet, hogy egy amúgy adaptív stratégia mellékterméke.</a:t>
            </a:r>
            <a:r>
              <a:rPr b="1" lang="en-GB" sz="2200" spc="-1" strike="noStrike">
                <a:solidFill>
                  <a:srgbClr val="000000"/>
                </a:solidFill>
                <a:latin typeface="Times New Roman"/>
              </a:rPr>
              <a:t> </a:t>
            </a:r>
            <a:br>
              <a:rPr sz="2200"/>
            </a:br>
            <a:r>
              <a:rPr b="1" lang="en-GB" sz="2200" spc="-1" strike="noStrike">
                <a:solidFill>
                  <a:srgbClr val="000000"/>
                </a:solidFill>
                <a:latin typeface="Times New Roman"/>
              </a:rPr>
              <a:t> </a:t>
            </a:r>
            <a:endParaRPr b="0" lang="en-US" sz="22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z, hogy a nemi erőszak áldozatai általában fiatal nők, és gyakran esnek teherbe, a második hipotézist támasztja alá, és a nemi erőszak a szexuális konfliktus egy emberi példájának tűni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z apaság női kontrollja</a:t>
            </a:r>
            <a:br>
              <a:rPr sz="2400"/>
            </a:br>
            <a:endParaRPr b="0" lang="en-US" sz="26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a:t>
            </a:r>
            <a:r>
              <a:rPr b="0" lang="hu-HU" sz="2200" spc="-1" strike="noStrike">
                <a:solidFill>
                  <a:srgbClr val="000000"/>
                </a:solidFill>
                <a:latin typeface="Times New Roman"/>
              </a:rPr>
              <a:t>W-</a:t>
            </a:r>
            <a:r>
              <a:rPr b="0" lang="en-GB" sz="2200" spc="-1" strike="noStrike">
                <a:solidFill>
                  <a:srgbClr val="000000"/>
                </a:solidFill>
                <a:latin typeface="Times New Roman"/>
              </a:rPr>
              <a:t>maximálizáló hím stratégia sokszor hátrányos a nőnek, nehezebben tudja partnere apasági erőfeszítéseit monopolizálni.</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B</a:t>
            </a:r>
            <a:r>
              <a:rPr b="0" lang="en-GB" sz="2200" spc="-1" strike="noStrike">
                <a:solidFill>
                  <a:srgbClr val="000000"/>
                </a:solidFill>
                <a:latin typeface="Times New Roman"/>
              </a:rPr>
              <a:t>első megtermékenyítés miatt tud ellenlépéseket tenni, az apaságot lényegében ő kontrollálja, több férfi spermáját is felhasználhatj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PC sokszor a tehetősebb, vagy jobb minőségű férfiak felé irányul.</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rányított fertilizációt segítő mechanizmusok is kialakultak.</a:t>
            </a:r>
            <a:r>
              <a:rPr b="0" lang="hu-HU" sz="2200" spc="-1" strike="noStrike">
                <a:solidFill>
                  <a:srgbClr val="000000"/>
                </a:solidFill>
                <a:latin typeface="Times New Roman"/>
              </a:rPr>
              <a:t> Az o</a:t>
            </a:r>
            <a:r>
              <a:rPr b="0" lang="en-GB" sz="2200" spc="-1" strike="noStrike">
                <a:solidFill>
                  <a:srgbClr val="000000"/>
                </a:solidFill>
                <a:latin typeface="Times New Roman"/>
              </a:rPr>
              <a:t>rgazmus izom-összehúzódásai segítik az ondó haladását és retencióját</a:t>
            </a:r>
            <a:r>
              <a:rPr b="0" lang="hu-HU" sz="2200" spc="-1" strike="noStrike">
                <a:solidFill>
                  <a:srgbClr val="000000"/>
                </a:solidFill>
                <a:latin typeface="Times New Roman"/>
              </a:rPr>
              <a:t> (rejtett hölgyválasz).</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Nők által vonzónak mondott férfival való aktus során többször következik be orgazmus. Így a preferált férfit ez segíti a spermaversengésben, nő</a:t>
            </a:r>
            <a:r>
              <a:rPr b="0" lang="hu-HU" sz="2200" spc="-1" strike="noStrike">
                <a:solidFill>
                  <a:srgbClr val="000000"/>
                </a:solidFill>
                <a:latin typeface="Times New Roman"/>
              </a:rPr>
              <a:t> </a:t>
            </a:r>
            <a:r>
              <a:rPr b="0" lang="en-GB" sz="2200" spc="-1" strike="noStrike">
                <a:solidFill>
                  <a:srgbClr val="000000"/>
                </a:solidFill>
                <a:latin typeface="Times New Roman"/>
              </a:rPr>
              <a:t>hatásosan befolyásolhatja gyereke apjának valószínűségét.</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3244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Spermakompetíció és párőrzés</a:t>
            </a:r>
            <a:br>
              <a:rPr sz="2600"/>
            </a:br>
            <a:endParaRPr b="0" lang="en-US" sz="26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PC-</a:t>
            </a:r>
            <a:r>
              <a:rPr b="0" lang="hu-HU" sz="2200" spc="-1" strike="noStrike">
                <a:solidFill>
                  <a:srgbClr val="000000"/>
                </a:solidFill>
                <a:latin typeface="Times New Roman"/>
              </a:rPr>
              <a:t>ző</a:t>
            </a:r>
            <a:r>
              <a:rPr b="0" lang="en-GB" sz="2200" spc="-1" strike="noStrike">
                <a:solidFill>
                  <a:srgbClr val="000000"/>
                </a:solidFill>
                <a:latin typeface="Times New Roman"/>
              </a:rPr>
              <a:t> nő az elsődleges pá</a:t>
            </a:r>
            <a:r>
              <a:rPr b="0" lang="hu-HU" sz="2200" spc="-1" strike="noStrike">
                <a:solidFill>
                  <a:srgbClr val="000000"/>
                </a:solidFill>
                <a:latin typeface="Times New Roman"/>
              </a:rPr>
              <a:t>rja </a:t>
            </a:r>
            <a:r>
              <a:rPr b="0" lang="en-GB" sz="2200" spc="-1" strike="noStrike">
                <a:solidFill>
                  <a:srgbClr val="000000"/>
                </a:solidFill>
                <a:latin typeface="Times New Roman"/>
              </a:rPr>
              <a:t>szülői aktivitását nagyban parazitálhatja,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t>
            </a:r>
            <a:r>
              <a:rPr b="0" lang="hu-HU" sz="2200" spc="-1" strike="noStrike">
                <a:solidFill>
                  <a:srgbClr val="000000"/>
                </a:solidFill>
                <a:latin typeface="Times New Roman"/>
              </a:rPr>
              <a:t>Zabi”</a:t>
            </a:r>
            <a:r>
              <a:rPr b="0" lang="en-GB" sz="2200" spc="-1" strike="noStrike">
                <a:solidFill>
                  <a:srgbClr val="000000"/>
                </a:solidFill>
                <a:latin typeface="Times New Roman"/>
              </a:rPr>
              <a:t> utód idegen gének</a:t>
            </a:r>
            <a:r>
              <a:rPr b="0" lang="hu-HU" sz="2200" spc="-1" strike="noStrike">
                <a:solidFill>
                  <a:srgbClr val="000000"/>
                </a:solidFill>
                <a:latin typeface="Times New Roman"/>
              </a:rPr>
              <a:t>kel</a:t>
            </a:r>
            <a:r>
              <a:rPr b="0" lang="en-GB" sz="2200" spc="-1" strike="noStrike">
                <a:solidFill>
                  <a:srgbClr val="000000"/>
                </a:solidFill>
                <a:latin typeface="Times New Roman"/>
              </a:rPr>
              <a:t> a hím számára nagy fitness-vesztéssel jár</a:t>
            </a:r>
            <a:r>
              <a:rPr b="0" lang="hu-HU" sz="2200" spc="-1" strike="noStrike">
                <a:solidFill>
                  <a:srgbClr val="000000"/>
                </a:solidFill>
                <a:latin typeface="Times New Roman"/>
              </a:rPr>
              <a:t>. (Anyának nem probléma)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ószínűleg emiatt a félrelépés férfiaknál nagyobb érzelmi reakciót vált ki</a:t>
            </a:r>
            <a:r>
              <a:rPr b="0" lang="hu-HU" sz="2200" spc="-1" strike="noStrike">
                <a:solidFill>
                  <a:srgbClr val="000000"/>
                </a:solidFill>
                <a:latin typeface="Times New Roman"/>
              </a:rPr>
              <a:t>, </a:t>
            </a:r>
            <a:r>
              <a:rPr b="0" lang="en-GB" sz="2200" spc="-1" strike="noStrike">
                <a:solidFill>
                  <a:srgbClr val="000000"/>
                </a:solidFill>
                <a:latin typeface="Times New Roman"/>
              </a:rPr>
              <a:t>féltékenyebbek</a:t>
            </a:r>
            <a:r>
              <a:rPr b="0" lang="hu-HU" sz="2200" spc="-1" strike="noStrike">
                <a:solidFill>
                  <a:srgbClr val="000000"/>
                </a:solidFill>
                <a:latin typeface="Times New Roman"/>
              </a:rPr>
              <a:t>,</a:t>
            </a:r>
            <a:r>
              <a:rPr b="0" lang="en-GB" sz="2200" spc="-1" strike="noStrike">
                <a:solidFill>
                  <a:srgbClr val="000000"/>
                </a:solidFill>
                <a:latin typeface="Times New Roman"/>
              </a:rPr>
              <a:t> mivel többet veszíthetnek, és könnyebben szakítják meg </a:t>
            </a:r>
            <a:r>
              <a:rPr b="0" lang="hu-HU" sz="2200" spc="-1" strike="noStrike">
                <a:solidFill>
                  <a:srgbClr val="000000"/>
                </a:solidFill>
                <a:latin typeface="Times New Roman"/>
              </a:rPr>
              <a:t>EPC </a:t>
            </a:r>
            <a:r>
              <a:rPr b="0" lang="en-GB" sz="2200" spc="-1" strike="noStrike">
                <a:solidFill>
                  <a:srgbClr val="000000"/>
                </a:solidFill>
                <a:latin typeface="Times New Roman"/>
              </a:rPr>
              <a:t>miatt kapcsolataikat, ami a szülői gondozás csökkentésének egyfajta módj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élrelépő férfi a családnak kisebb gond, mivel akkor a nő számára idegen gének terhét valamely más férfi és nő viseli.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 család, mint hatékony egység működését sokkal jobban veszélyezteti a családba a nő által hozott zabigyerek.</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E</a:t>
            </a:r>
            <a:r>
              <a:rPr b="1" lang="hu-HU" sz="2200" spc="-1" strike="noStrike">
                <a:solidFill>
                  <a:srgbClr val="000000"/>
                </a:solidFill>
                <a:latin typeface="Times New Roman"/>
              </a:rPr>
              <a:t>zek miat</a:t>
            </a:r>
            <a:r>
              <a:rPr b="1" lang="en-GB" sz="2200" spc="-1" strike="noStrike">
                <a:solidFill>
                  <a:srgbClr val="000000"/>
                </a:solidFill>
                <a:latin typeface="Times New Roman"/>
              </a:rPr>
              <a:t>t kétféle normarendszer alakult ki szinte minden kultúrában</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Iszlám, afrikai törzsek különösen</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Nyugati kultúrákban a nőknél jóval kevesebb esetben válóok a hűtlenség, mint férfiaknál.</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Óceánia számos népe a miénknél jóval szabadosabb szexuális életet él. Ilyen társadalmakban az apaság bizonyossága egészen kicsi lehet, amit a férfiak sajátos viselkedéssel kompenzálnak. Itt szokás a lánytestvér gyermekének nevelése a saját helyett. (nagybácsi-apa szerep). Kimutatható, hogy nem biztos apaság esetén a nővér gyermekében nagyobb arányban találhatók a férfi génjei, mint sajátjában. (Ha pl. minden negyedik általa nevelt utód csak az övé, akkor 4/32 a génközösségük, a nővére gyerekével viszont 5/32).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6" name="" descr=""/>
          <p:cNvPicPr/>
          <p:nvPr/>
        </p:nvPicPr>
        <p:blipFill>
          <a:blip r:embed="rId2"/>
          <a:stretch/>
        </p:blipFill>
        <p:spPr>
          <a:xfrm>
            <a:off x="2987640" y="2179800"/>
            <a:ext cx="5675400" cy="41256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 férfi számolhat az EPC lehetőségével, és tehet is ellen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Párőrzéssel</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gyütt töltött idővel csökken a női EPC esélye. Ennek a párőrzésnek lehet a házasság egyfajta intézményesült formája, olyan kultúrákban, ahol felismerik a család egységének fitness-növelő és kooperáció-segítő szerepé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Házasság így lehet előnyös is a férfi és a társadalom szempontjából is</a:t>
            </a:r>
            <a:r>
              <a:rPr b="0" lang="hu-HU" sz="2200" spc="-1" strike="noStrike">
                <a:solidFill>
                  <a:srgbClr val="000000"/>
                </a:solidFill>
                <a:latin typeface="Times New Roman"/>
              </a:rPr>
              <a:t> (és szexuális konfliktus oka a nők számára,  ha kényszerített)</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Utód-felismeréssel</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permakompetíció</a:t>
            </a:r>
            <a:r>
              <a:rPr b="0" lang="hu-HU" sz="2200" spc="-1" strike="noStrike">
                <a:solidFill>
                  <a:srgbClr val="000000"/>
                </a:solidFill>
                <a:latin typeface="Times New Roman"/>
              </a:rPr>
              <a:t>val</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N</a:t>
            </a:r>
            <a:r>
              <a:rPr b="0" lang="en-GB" sz="2200" spc="-1" strike="noStrike">
                <a:solidFill>
                  <a:srgbClr val="000000"/>
                </a:solidFill>
                <a:latin typeface="Times New Roman"/>
              </a:rPr>
              <a:t>álunk is szerepet kaphat (habár nem ez a hím-hím versengés fő formáj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érfi egy közösülés alatti spermium-kibocsátása nő a párjától külön töltött idő hosszával.</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Megnövekedett</a:t>
            </a:r>
            <a:r>
              <a:rPr b="0" lang="en-GB" sz="2200" spc="-1" strike="noStrike">
                <a:solidFill>
                  <a:srgbClr val="000000"/>
                </a:solidFill>
                <a:latin typeface="Times New Roman"/>
              </a:rPr>
              <a:t> EPC valószínűség</a:t>
            </a:r>
            <a:r>
              <a:rPr b="0" lang="hu-HU" sz="2200" spc="-1" strike="noStrike">
                <a:solidFill>
                  <a:srgbClr val="000000"/>
                </a:solidFill>
                <a:latin typeface="Times New Roman"/>
              </a:rPr>
              <a:t>et</a:t>
            </a:r>
            <a:r>
              <a:rPr b="0" lang="en-GB" sz="2200" spc="-1" strike="noStrike">
                <a:solidFill>
                  <a:srgbClr val="000000"/>
                </a:solidFill>
                <a:latin typeface="Times New Roman"/>
              </a:rPr>
              <a:t> kompenzálhatja valamelyest a több spermium. (Egy alternatív magyarázat szerint ilyen estben az idegen nők ingere miatt nő meg a saját EPC-s fertilizáló esélye).</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ímvessző morfológiája: alkalmas lehet spermium-eltávolításr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89" name="" descr=""/>
          <p:cNvPicPr/>
          <p:nvPr/>
        </p:nvPicPr>
        <p:blipFill>
          <a:blip r:embed="rId2"/>
          <a:stretch/>
        </p:blipFill>
        <p:spPr>
          <a:xfrm>
            <a:off x="3240000" y="2144880"/>
            <a:ext cx="5904000" cy="4713120"/>
          </a:xfrm>
          <a:prstGeom prst="rect">
            <a:avLst/>
          </a:prstGeom>
          <a:ln w="0">
            <a:noFill/>
          </a:ln>
        </p:spPr>
      </p:pic>
      <p:pic>
        <p:nvPicPr>
          <p:cNvPr id="90" name="" descr=""/>
          <p:cNvPicPr/>
          <p:nvPr/>
        </p:nvPicPr>
        <p:blipFill>
          <a:blip r:embed="rId3"/>
          <a:stretch/>
        </p:blipFill>
        <p:spPr>
          <a:xfrm>
            <a:off x="2627280" y="907920"/>
            <a:ext cx="5435640" cy="39164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89"/>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0"/>
                                        </p:tgtEl>
                                        <p:attrNameLst>
                                          <p:attrName>style.visibility</p:attrName>
                                        </p:attrNameLst>
                                      </p:cBhvr>
                                      <p:to>
                                        <p:strVal val="visible"/>
                                      </p:to>
                                    </p:set>
                                  </p:childTnLst>
                                </p:cTn>
                              </p:par>
                              <p:set>
                                <p:cBhvr>
                                  <p:cTn id="62" dur="1" fill="hold">
                                    <p:stCondLst>
                                      <p:cond delay="0"/>
                                    </p:stCondLst>
                                  </p:cTn>
                                  <p:tgtEl>
                                    <p:spTgt spid="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zámos teoretikus elvetvetette el a darwini teóriák emberre való alkalmazhatóságát, ezek szerint sok emberi viselkedés nem hozató össze szaporodás-maximaliálással, fitnessel, és más okokat,</a:t>
            </a:r>
            <a:r>
              <a:rPr b="0" lang="hu-HU" sz="2200" spc="-1" strike="noStrike">
                <a:solidFill>
                  <a:srgbClr val="000000"/>
                </a:solidFill>
                <a:latin typeface="Times New Roman"/>
              </a:rPr>
              <a:t> (</a:t>
            </a:r>
            <a:r>
              <a:rPr b="0" lang="en-GB" sz="2200" spc="-1" strike="noStrike">
                <a:solidFill>
                  <a:srgbClr val="000000"/>
                </a:solidFill>
                <a:latin typeface="Times New Roman"/>
              </a:rPr>
              <a:t>pl. kulturális hatásokat</a:t>
            </a:r>
            <a:r>
              <a:rPr b="0" lang="hu-HU" sz="2200" spc="-1" strike="noStrike">
                <a:solidFill>
                  <a:srgbClr val="000000"/>
                </a:solidFill>
                <a:latin typeface="Times New Roman"/>
              </a:rPr>
              <a:t>)</a:t>
            </a:r>
            <a:r>
              <a:rPr b="0" lang="en-GB" sz="2200" spc="-1" strike="noStrike">
                <a:solidFill>
                  <a:srgbClr val="000000"/>
                </a:solidFill>
                <a:latin typeface="Times New Roman"/>
              </a:rPr>
              <a:t> feltételezne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omo sapiens körülbelül 200 000 éves, Észak-kelet-Afrika-i faj</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mberi viselkedésrõl adaptivitásánál múltbéli mechanizmusokat kell feltételeznünk, melynek nyomai még a mai viselkedésformákban is megtalálható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z ember szétterjedése után változatos környezetekben telepedett meg, a társadalmak óriási változatossága jött létre</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25560"/>
            <a:ext cx="26038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rPr>
              <a:t>Az emberi család</a:t>
            </a:r>
            <a:endParaRPr b="0" lang="en-US" sz="2600" spc="-1" strike="noStrike">
              <a:solidFill>
                <a:srgbClr val="000000"/>
              </a:solidFill>
              <a:latin typeface="Times New Roman"/>
            </a:endParaRPr>
          </a:p>
        </p:txBody>
      </p:sp>
      <p:pic>
        <p:nvPicPr>
          <p:cNvPr id="92" name="" descr=""/>
          <p:cNvPicPr/>
          <p:nvPr/>
        </p:nvPicPr>
        <p:blipFill>
          <a:blip r:embed="rId2"/>
          <a:stretch/>
        </p:blipFill>
        <p:spPr>
          <a:xfrm>
            <a:off x="684360" y="765000"/>
            <a:ext cx="7343640" cy="551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47973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inden természeti és ipari társadalomban, függetlenül a kialakult szaporodási rendszertõl, államformától vagy egyéb tényezõtõl, a család jelen van, mint az emberi kultúrák legkisebb mûködõ egység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Örökbefogadás bizonyos szituációkban előnyös lehet a szülőknek, de általában a mostohaszülőség nem adaptív, az idegen gének sikere a szülőnek nem lehet érdeke.</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zámos bizonyíték van, hogy a saját gyerekek általában sokkal kevesebb szülői agresszióban, nélkülözésben, konfliktusban és szexuális megrontásban van részük, mint az (esetleg velük együtt nevelt) </a:t>
            </a:r>
            <a:r>
              <a:rPr b="0" lang="hu-HU" sz="2200" spc="-1" strike="noStrike">
                <a:solidFill>
                  <a:srgbClr val="000000"/>
                </a:solidFill>
                <a:latin typeface="Times New Roman"/>
              </a:rPr>
              <a:t>zabi</a:t>
            </a:r>
            <a:r>
              <a:rPr b="0" lang="en-GB" sz="2200" spc="-1" strike="noStrike">
                <a:solidFill>
                  <a:srgbClr val="000000"/>
                </a:solidFill>
                <a:latin typeface="Times New Roman"/>
              </a:rPr>
              <a:t>gyermekeknek.</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20" y="-25560"/>
            <a:ext cx="31129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rPr>
              <a:t>Házasodási döntések</a:t>
            </a:r>
            <a:endParaRPr b="0" lang="en-US" sz="2600" spc="-1" strike="noStrike">
              <a:solidFill>
                <a:srgbClr val="000000"/>
              </a:solidFill>
              <a:latin typeface="Times New Roman"/>
            </a:endParaRPr>
          </a:p>
        </p:txBody>
      </p:sp>
      <p:pic>
        <p:nvPicPr>
          <p:cNvPr id="95" name="" descr=""/>
          <p:cNvPicPr/>
          <p:nvPr/>
        </p:nvPicPr>
        <p:blipFill>
          <a:blip r:embed="rId2"/>
          <a:stretch/>
        </p:blipFill>
        <p:spPr>
          <a:xfrm>
            <a:off x="2340000" y="692280"/>
            <a:ext cx="4340160" cy="590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Negatív frekvencia-függő szelecióra példa (1:1arán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a OSR eltolt, születéskori ivararány a ritkábbik ivar felé módosulhat</a:t>
            </a:r>
            <a:endParaRPr b="0" lang="en-US" sz="2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finnországi preindusztriális populációk, háború utáni Európában)</a:t>
            </a:r>
            <a:endParaRPr b="0" lang="en-US" sz="20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ex allocation theory szerint, ha eltérő a fiak és lányok értéke (fitness-visszatérítése), érdemes a kifizetődőbb utódba invesztálni.</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 szülők sok esetben hatékonyan befolyásolhatják utódaik nemét, annak függvényében, hogy adott szituációban melyik ivarú utódnak magasabb a fitness-visszatérítése, és így a populáció eltérhet az 1:1-es fisheri aránytól.</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nnek megfelelően a szülők embereknél is többet fektetnek az értékesebb utódba, és az és ivararányt is eltolhatják.</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Kínában a születő lányokat legtöbbször eltitkolják, hivatalosan nem léteznek. Az ivararány így erősen a fiúk felé mozdul, ami miatt tíz-húsz év múlva kínaiak milliói nem jutnak majd feleséghez</a:t>
            </a:r>
            <a:r>
              <a:rPr b="1" lang="hu-H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hozomány a szülői befektetés egyik speciálisan humán, igen elterjedt formáj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ársadalmak 66%-a házasodáskor a fiúval adja, ezen népek 90%-a poligám.</a:t>
            </a:r>
            <a:r>
              <a:rPr b="0" lang="hu-HU" sz="2200" spc="-1" strike="noStrike">
                <a:solidFill>
                  <a:srgbClr val="000000"/>
                </a:solidFill>
                <a:latin typeface="Times New Roman"/>
              </a:rPr>
              <a:t>  </a:t>
            </a:r>
            <a:r>
              <a:rPr b="0" lang="en-GB" sz="2200" spc="-1" strike="noStrike">
                <a:solidFill>
                  <a:srgbClr val="000000"/>
                </a:solidFill>
                <a:latin typeface="Times New Roman"/>
              </a:rPr>
              <a:t>Lánnyal csak 3%-uk adja, f</a:t>
            </a:r>
            <a:r>
              <a:rPr b="0" lang="hu-HU" sz="2200" spc="-1" strike="noStrike">
                <a:solidFill>
                  <a:srgbClr val="000000"/>
                </a:solidFill>
                <a:latin typeface="Times New Roman"/>
              </a:rPr>
              <a:t>ő</a:t>
            </a:r>
            <a:r>
              <a:rPr b="0" lang="en-GB" sz="2200" spc="-1" strike="noStrike">
                <a:solidFill>
                  <a:srgbClr val="000000"/>
                </a:solidFill>
                <a:latin typeface="Times New Roman"/>
              </a:rPr>
              <a:t>leg a monogám társadalmaknál (50%-ban).</a:t>
            </a:r>
            <a:r>
              <a:rPr b="0" lang="hu-HU"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z férfiúi a versengő nem, a hozomány igen megnövelheti tehetősségét, státuszát, és így esélyét a versenyben.</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őleg poligín népeknél hatásos, és ott, ahol az OSR a férfiak felé van eltolódv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oligíniában</a:t>
            </a:r>
            <a:r>
              <a:rPr b="0" lang="hu-HU" sz="2200" spc="-1" strike="noStrike">
                <a:solidFill>
                  <a:srgbClr val="000000"/>
                </a:solidFill>
                <a:latin typeface="Times New Roman"/>
              </a:rPr>
              <a:t> tehetős </a:t>
            </a:r>
            <a:r>
              <a:rPr b="0" lang="en-GB" sz="2200" spc="-1" strike="noStrike">
                <a:solidFill>
                  <a:srgbClr val="000000"/>
                </a:solidFill>
                <a:latin typeface="Times New Roman"/>
              </a:rPr>
              <a:t>hímnek nagyobb esélye van, hogy sok unokát nemzzen, mint a gazdag lánynak, emiatt a család őt favorizálj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yugati kultúrákban is működik a mechanizmus, a gazdagabb családoknál az örökséget gyakrabban hagyják a fiúra, mint a kevésbé tehetős famíliák. A tehetősségük itt is vonzóvá teszi őket, a preferencia megőrződött</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A lánypreferencia ritka, és általában különleges oka van.</a:t>
            </a:r>
            <a:endParaRPr b="0" lang="en-US" sz="22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A kenyai Mukogodo törzs nemrég tért át a vadászó életmódról a pásztorkodásra. De rossz legelőik és kis tapasztalatuk miatt nem tudnak olyan vagyonra szert tenni, mint a szomszédos pásztortörzsek. Így fiaik sokkal kevésbé esélyesek a lányvadászatban, mint a nagyobb vagyonú szomszéd legények. Viszont azoknál kevés a nő, így lányaik értékes források azok számára. Emiatt lányutódaikra több energiát pazarolnak, többet viszik orvoshoz, stb. </a:t>
            </a:r>
            <a:br>
              <a:rPr sz="2000"/>
            </a:b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agyar roma populációknál a lányok értékesebbek, mert nagyobb az esélyük a felfelé házasodásra (magyarokkal). Ezért többet fektetnek lányokba, mint a nem cigányok (több lány születik, többet szoptatják és iskolázzá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a a nővel jár a hozomány, az általában a jó hím csábításának az eszköze. A monogám társadalmaknál a jó minőségű (gazdag, odaadó) férfiak nagy előnyt jelentenek a gyereknevelésben, a hozomány ilyen preferencia-befolyásoló eszköz lehe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4360" y="4724280"/>
            <a:ext cx="1238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vé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Leginkább érvényes válaszokat az emberi viselkedésre a még ma is létezõ primitív természeti népek megfigyelésével kaphatjuk</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Kultúrális hatások elfedhetik az ősi mechanizmusoka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Nagyon megváltozott környezetben egy-egy valaha optimális viselkedés értelmetlennek tûnhe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Véradás pl. elsõ látásra nehezen értelmezhetõ darwini módon. Látszólag tisztán altruista viselkedés, melynek semmi köze a adaptivitáshoz és a sikerességhez. Inkluzív fitness nem jöhet szóba. Lehetséges, hogy a fitness-haszon  nem a rokonok sikere révén realizálódik. Valamiféle elismerés lehet a tisztán jutalom nélküli cselekedet jutal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lyen önzetlen magatartásformák, melyek segítették a hatékony csoport- </a:t>
            </a:r>
            <a:br>
              <a:rPr sz="2200"/>
            </a:br>
            <a:r>
              <a:rPr b="0" lang="en-GB" sz="2200" spc="-1" strike="noStrike">
                <a:solidFill>
                  <a:srgbClr val="000000"/>
                </a:solidFill>
                <a:latin typeface="Times New Roman"/>
              </a:rPr>
              <a:t>mûködést és kooperációt, végsõ soron a csoport elismerését, így státusznövekedést, segítséget, és így megnövekedett sikert hozhat a cselekvõnek. Proximális érzelmi mechanizmusok is lehetnek hozzá kapcsolódva. </a:t>
            </a:r>
            <a:br>
              <a:rPr sz="2200"/>
            </a:b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zociális szelekciós mechanizmusok.</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Örökbefogadási viselkedés is ellentmondásos. Látszólag teljesen maladaptív és fitness-csökkentõ.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yes óceániániai népeknél 30% is lehet az örökbefogadott gyerekek aránya. Rokonsági fok elég magas volt, általában 1/4, tehát unokatestvér szintû. A rokonszelekció itt tehát mûködhet. Voltak olyan családok is, ahol semmilyen rokonságban nem állt az adoptált gyerek. Ez viszont kis családokban volt jellemzõ csak, ahol egy esetleges plusz tag nagyban növelheti munkájával a család túlélését, indirekte módon növelve az adoptáló fitnessé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ehet, hogy egy amúgy adaptív viselkedés (szülõi gondoskodás) mellékterméke, mely bizonyos körülmények között kifejezõdésre juthat (pl. utód elvesztése, stb.).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7" name="" descr=""/>
          <p:cNvPicPr/>
          <p:nvPr/>
        </p:nvPicPr>
        <p:blipFill>
          <a:blip r:embed="rId2"/>
          <a:stretch/>
        </p:blipFill>
        <p:spPr>
          <a:xfrm>
            <a:off x="2340000" y="2241720"/>
            <a:ext cx="6365880" cy="3873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Az ember evolúciója egyben a párkapcsolat evolúciója is. A fajban nagyon erős a párkötõdé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Szexualitás szerepe kibõvül a nemiség feszültségoldó és párkapcsolat-erõsítõ funkciójával</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Ember társas monogám faj, ami ritkaság. Monogám fajok általában magánosak</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Legközelebbi emberszabású rokonaink e tekintetben jelentõsen különböznek</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000" spc="-1" strike="noStrike">
                <a:solidFill>
                  <a:srgbClr val="000000"/>
                </a:solidFill>
                <a:latin typeface="Times New Roman"/>
              </a:rPr>
              <a:t>A csimpánzok 5-6 évente kerülnek fogékony állapotba, melyet a fenekükön lévõ "sex skin" pirosodásával jeleznek a hímeknek. Az ilyen nõsténnyel a klán számos hímje párosodik, de az aktus alig pár másodperc.</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360"/>
            <a:ext cx="8893080" cy="1376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ea typeface="Times New Roman"/>
              </a:rPr>
              <a:t>Az emberi szexualitás evolúciója és jellegzetességei</a:t>
            </a:r>
            <a:endParaRPr b="0" lang="en-US" sz="2600" spc="-1" strike="noStrike">
              <a:solidFill>
                <a:srgbClr val="000000"/>
              </a:solidFill>
              <a:latin typeface="Times New Roman"/>
            </a:endParaRPr>
          </a:p>
        </p:txBody>
      </p:sp>
      <p:pic>
        <p:nvPicPr>
          <p:cNvPr id="50" name="" descr=""/>
          <p:cNvPicPr/>
          <p:nvPr/>
        </p:nvPicPr>
        <p:blipFill>
          <a:blip r:embed="rId2"/>
          <a:stretch/>
        </p:blipFill>
        <p:spPr>
          <a:xfrm>
            <a:off x="826920" y="907920"/>
            <a:ext cx="7274160" cy="514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50920" y="1341360"/>
            <a:ext cx="2709720" cy="4076640"/>
          </a:xfrm>
          <a:prstGeom prst="rect">
            <a:avLst/>
          </a:prstGeom>
          <a:ln w="0">
            <a:noFill/>
          </a:ln>
        </p:spPr>
      </p:pic>
      <p:pic>
        <p:nvPicPr>
          <p:cNvPr id="52" name="" descr=""/>
          <p:cNvPicPr/>
          <p:nvPr/>
        </p:nvPicPr>
        <p:blipFill>
          <a:blip r:embed="rId3"/>
          <a:stretch/>
        </p:blipFill>
        <p:spPr>
          <a:xfrm>
            <a:off x="3276720" y="189000"/>
            <a:ext cx="2273040" cy="3024000"/>
          </a:xfrm>
          <a:prstGeom prst="rect">
            <a:avLst/>
          </a:prstGeom>
          <a:ln w="0">
            <a:noFill/>
          </a:ln>
        </p:spPr>
      </p:pic>
      <p:pic>
        <p:nvPicPr>
          <p:cNvPr id="53" name="" descr=""/>
          <p:cNvPicPr/>
          <p:nvPr/>
        </p:nvPicPr>
        <p:blipFill>
          <a:blip r:embed="rId4"/>
          <a:stretch/>
        </p:blipFill>
        <p:spPr>
          <a:xfrm>
            <a:off x="6372360" y="1628640"/>
            <a:ext cx="2322360" cy="3888000"/>
          </a:xfrm>
          <a:prstGeom prst="rect">
            <a:avLst/>
          </a:prstGeom>
          <a:ln w="0">
            <a:noFill/>
          </a:ln>
        </p:spPr>
      </p:pic>
      <p:pic>
        <p:nvPicPr>
          <p:cNvPr id="54" name="" descr=""/>
          <p:cNvPicPr/>
          <p:nvPr/>
        </p:nvPicPr>
        <p:blipFill>
          <a:blip r:embed="rId5"/>
          <a:stretch/>
        </p:blipFill>
        <p:spPr>
          <a:xfrm>
            <a:off x="3419640" y="3473280"/>
            <a:ext cx="2644560" cy="3384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lum contrast="-12000"/>
          </a:blip>
          <a:stretch/>
        </p:blipFill>
        <p:spPr>
          <a:xfrm>
            <a:off x="0" y="0"/>
            <a:ext cx="5656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9T21:51:57Z</dcterms:created>
  <dc:creator>Viselkedésökológiai Kutatócsoport</dc:creator>
  <dc:description/>
  <dc:language>en-US</dc:language>
  <cp:lastModifiedBy>Szabó Krisztián</cp:lastModifiedBy>
  <dcterms:modified xsi:type="dcterms:W3CDTF">2008-04-28T22:38:35Z</dcterms:modified>
  <cp:revision>78</cp:revision>
  <dc:subject/>
  <dc:title>PowerPoint Presentation</dc:title>
</cp:coreProperties>
</file>