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FD8-3108-4EAD-A679-E94E845A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308-E7C3-4086-95AC-94042A7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129-B551-4473-BB8A-48058C90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089-3238-464B-A0C4-C0C62602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509-8811-4ABA-AFF8-C7B0143C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30E-1D8B-4E8D-ACFA-E8BC43F0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833-A0D5-4284-904C-76AD27A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B1C-F9E9-4051-ACD2-E2834AB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074-ADA0-4DD2-9B1E-9FD10D9F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37A-D560-4989-B1C1-D299E07C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407-10FC-4AE9-906D-77C561F5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650-4220-466B-AE8A-C74E227F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7F05-8920-40AE-97EF-36C52B12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 homoszexualitás adaptációs teóriái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Szövetségformáló-hipotézis</a:t>
            </a:r>
            <a:br>
              <a:rPr sz="24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z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teóri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eciprok altruizmust feltételez a résztvevők részéről.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ociális szelekció érvényesü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nemen belüli versengés bizonyos anyagi javakért vagy szociális rangért lehetővé teszi, hogy direkt szelekció hasson a homoszexualitás kialakulására.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Két azonos nemű egyed, egymással szövetkezve sokkal hatékonyabb lehet ezek megszerzésében, és a homoszexuális viselkedés erősebbé és hatékonyabbá teheti a szövetséget. A hatékonyság növekedése miatt az egyedi túlélés, vagy az utódnevelés sokkal eredményesebb lehet, így a fitness is növekedik.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z a modell így nem homo-, hanem biszexualitást feltételez a résztvevőknél.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elmélet predikció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onos nemű szövetségek segítik egymás túlélését és szaporodását.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legtöbb kultúrában, ahol elterjedt vagy jelentős a jelenség, a homoszexuális kapcsolatok szinte minden esetben patrónus-kliens (pártfogó és pártfogolt) jellegűek (antik Athén, középkori Firenze, Melanézia sok népe, stb.). Sok esetben a homoszexuális partnerek szövetségesként védik és segítik egymás családját.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K’ekch’i Mayáknál az ilyen kapcsolatot fenntartó férfiak gyerekeinek túlélése nagyobb, mint a csak heteroszexuális módon élők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Homoszexualitás segít a szövetségek kialakításában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l. Melanéziai, valamint a Sambia, Nambikuova, Dakomey törzseknél is bizonyított, hogy az emóciók segítik a hosszú távú kapcsolatok kialakulását és fenntartását a hasonnemű párokná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3. Biszexualitás gyakoribb, mint a homoszexualitás</a:t>
            </a:r>
            <a:br>
              <a:rPr sz="2200"/>
            </a:b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z a feltételezés minden kultúrában érvényesnek tűnik, akár modern, akár ősi társadalmakban, a magukat kizárólag homokosnak mondó személyek aránya kisebb, mint a mindkét nemet kedvelőké. Ezen kívül a homoszexuális emóciók gyakoribbak, mint a viselkedé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yugati társadalmakban a megkérdezett heteroszexuálisak 8-12%-a érzett már vágyat saját neme iránt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három alternatív hipotézis egyike sem nyert közvetlen bizonyítást, így nem magyarázza kizárólagosan a jelenség okát, de a mai eredmények birtokában egyiket sem vethetjük 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legtöbb direkt bizonyíték a szövetségformáló modellt támasztja alá. Ez magyarázza legjobban a homoszexuális viselkedés flexibilitását is. Az azonos neműek közötti kooperációt megkönnyítő és erősítő homoszexuális viselkedés, habár önmagában fitness-csökkentő, indirekt módon azonban, a szövetséges "párok" hatékonyabbá válásával és jobb túlélésével növelheti a szaporodási sikert.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k főemlősfajnál előfordul homoszexualitásos magatartás, ott is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ociál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elekciós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chanizmusokat feltételeznek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orilla ezüsthátú hím és feketehátú védence között is megfigyeltek ilyet (akár anális behatolással)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Japán makákó nőstényeknél a koalicíókötést erősíthetik a szexuális aktuso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örpe csimpánznál a klánhoz csatlakozó nőstény keresheti idősebb, domináns nőstények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édelmét, ami homoszexuális viselkedéssel is együtt járhat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8764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korai Homo evolúció során, a kisebb csoportokban, klánokban élő emberek túlélése és sikere nagyban függött a kooperációtól, a csoport együttműködésétől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gyereknevelés hosszúsága miatt a szülők munkamegosztása nagyfokú volt, a szoptató, nevelő anya nem tudott más aktivitásokban hatékonyan részt venni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gyakran, és sok ideig egymástól távol lévő nemeken belüli kooperáció tehát nagyban növelhette az együtt vadászó, gyűjtögető, stb. férfiak és nők esélyét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homoszexuális viselkedésformák hátterében is hasonló okokat lehet feltételeznünk, mint a heteroszexuális feszültségoldó és kötődés-erősítő nemi funkcióknál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z így kialakult preferenciák aztán, a későbbi korokban is fennmaradva, eredményezhették a történeti és mai korokban tapasztalható homoszexuális viselkedés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60000" y="350028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vé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homoszexuális viselkedés az emberi kultúrák 60%-ában eltűrt vagy valamilyen szinten intézményesített, és a többi táradalomban is előfordul (habár tiltják és büntetik)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z első látásra teljesen ellentmond a darwini tanoknak, az így élő egyed nem szaporodik, és reproduktív potenciálja nulla. Mégis, az, hogy ennyire elterjedt jelenség, feltételezi, hogy kialakulása és fenntartása valamilyen módon adaptív lehet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legextrémebb estekben a populáció teljes egészében megtalálható a homo (bi) szexuális viselkedés (pl. Melanézia sok kultúrája) és máshol igen is nagy arányban fordul elő (az ókori Athén, Tahiti, dél-afrikai Mpondo törzsek, Kína, a középkori Japán, észak és dél-amerikai indián törzsek)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k kutatás tárgya a homoszexualitás kialakulásában részt vevő tényezők és hatások felderítése. Egy ilyen jelleg hátterében feltételezhetünk genetikai hajlamot és környezeti, nevelési hatásokat is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Genetikai tényezők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hatását kimutattá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ypetéjű ikreknél kétszer olyan gyakori volt rá a hajlam, mindkét testvérnél, mint kétpetéjűeknél, valamint bizonyos kromoszomális egyezéseket is felfedeztek a homoszexuális ikerpároknál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ermészetesen homoszexualitás-gén nincsen, a jelleg bonyolult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rmonális hatásokr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szintén találtak példá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gzati hormonhatás különbözőségét feltételezik (mely hatására a hajlam kialakulhat), mivel homo- és heteroszexuális emberek ujjlenyomatokban különbségeket találtak ( az ujjlenyomat a magzati kor negyedik hónapjára kifejlődik). Viszont a homokosok és nem homokosok androgén-receptoraiban nem találtak különbséget, ami kétségessé teszi, hogy különböző hormonhatások érvényesülnéne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izonyított, hogy egyes környezeti hatások, mint az azonos neműek kizárólagos társasága (sereg, börtön, kollégium), az azonnemű testvérek nagy száma, növelhetik az erre való hajlamot. Ez a viselkedés aztán a hatások megszűntével legtöbbször eltűn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Vagyis:  a viselkedés hátterében találtak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genetikai, hormonális és környezeti tényezők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is, de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egyértelműen egyik hatása sem bizonyítot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arwini magyarázatok a homoszexualitásra: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Rokonszelekciós hipotéz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ilson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moszexuális egyedek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génjei fennmaradhatnak, h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rokonok szaporodási sikerét növelik segítő (helper) magatartásukkal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ő direkt szaporodási sikerük nulla, mégis lehet adaptív a viselkedés, mert rokonaik ily módon megnövekedett sikere révén az ő génjeik is jobban túlélnek, az inkluzív fitness összességében nagyobb.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z a stratégia előnyös lehet egy olyan fajnál, mint az ember, ahol az egyedek túlélése, és így a szaporodási sikere nagyban függ a szülői befektetéstől, és egy helper nagy segítség lehet.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homoszexualitás génjei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s fennmaradhatnak 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okonok révén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és megőrződhetnek a populációban, annak ellenére, hogy a homoszexuális egyedek nem szaporodna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Szülői kényszer hipotéz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rivers, Alexander)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asonló szerepeket felételez. A homoszexuális egyed itt is aktívan segíti rokonai szaporodásisiker-növelését helper magatartásával, de ez esetben a szülők kényszerítik ilyen magatartásra saját sikerük növelése érdekbe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1540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két modell predikciói hasonlók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moszexualitás csökkenti az egyedi szaporodási sikert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ok ősi és modern kultúrában találták példáját, hogy a magukat homoszexuálisnak valló egyedeknek nem volt statisztikailag szignifikánsan kevesebb gyerekük. (Természetesen heteroszexuális kapcsolatból)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ínában és Thaiföldön pl. ez a magatartás csak addig tolerált, amíg a gyereknemzésben részt vesznek az ilyen személyek.</a:t>
            </a:r>
            <a:br>
              <a:rPr sz="20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moszexuális egyedek növelik a rokonság szaporodási sikeré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nnek a predikciónak bizonyítására alig van még adat, csak annyit lehet tudni, hogy van rá példa, hogy a homoszexuálisok segítenek a családban. De hogy növeli-e szaporodási sikert, arra még nincs közvetlen bizonyíték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moszexualitás tipikusan az alacsony reproduktív potenciálú egyedeknél fordul elő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umán példák azt mutatják, hogy a szaporodási potenciál függhet a biológiai szaporodási varianciától, a demográfiai nemaránytól és a születési sorrendtől.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Kis reproduktív potenciálnak (és így homoszexualitásnak), főleg poligám társadalmakban, hímeknél (nagyobb a variancia repr. pot.ban) és sok testvérrel rendelkező egyedeknél kellene jellemzőnek lennie.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tapasztalatok azt mutatják, hogy a poligámiás kultúrákban nem nagyobb a homoszexualitás aránya, mint a monogámoknál.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Általában több fiú vallja magát homokosnak, mint nő (ez persze lehet a lányok nagyobb szégyenlősége miatt is).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A és kanadai felmérésekből az derült ki, hogy korreláció van a nagyobb testvérek száma és a homoszexuális hajlam között. Kevesebb esetben vallo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k annak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gukat az elsőszülöttek, mint a sok báttyal és nővérrel rendelkező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1:08:36Z</dcterms:created>
  <dc:creator>VÖCS</dc:creator>
  <dc:description/>
  <dc:language>en-US</dc:language>
  <cp:lastModifiedBy>Szabó Krisztián</cp:lastModifiedBy>
  <dcterms:modified xsi:type="dcterms:W3CDTF">2008-04-28T22:58:56Z</dcterms:modified>
  <cp:revision>45</cp:revision>
  <dc:subject/>
  <dc:title>A humán szexualitás (folytatás)</dc:title>
</cp:coreProperties>
</file>