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45B-22E5-47A5-ADB0-6280A80E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507-CA17-4A3C-BCE3-87D31CEC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71C-5A98-4BE0-95E5-772FC9FA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D3A-8015-4F4F-AF0B-0FFC474D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751-03AD-4D4E-B0D5-EC87931D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BA9-3A48-4299-A140-346E69E6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D38-453E-4BEF-8E28-C6A08D81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56D-80F8-4F05-B45E-9A421217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E3E-9CC4-474C-BF2B-2934C650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D62-574B-4669-AC0E-23D40248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4BE-9885-4892-B1A0-8C309E8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E0C-18DB-484B-BA6D-2DBE62B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91A5-CFE2-45E5-B605-A2737A512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080" y="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zexuális populáci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887640" cy="275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356000" y="333360"/>
            <a:ext cx="4572000" cy="331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2049480" cy="309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572000" y="4076640"/>
            <a:ext cx="36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i="1" lang="hu-HU" sz="2400" spc="-1" strike="noStrike">
                <a:solidFill>
                  <a:srgbClr val="333399"/>
                </a:solidFill>
                <a:latin typeface="Arial"/>
              </a:rPr>
              <a:t>Caenorhabditis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 fére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 hímek dupla költségének hatékony lefarag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vari determinációjuk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: hermafrodita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: h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 féle ivarsejt, háromféle utó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hu-HU" sz="2200" spc="-1" strike="noStrike">
                <a:solidFill>
                  <a:srgbClr val="333399"/>
                </a:solidFill>
                <a:latin typeface="Arial"/>
              </a:rPr>
              <a:t>Coenorhabditis elegans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: 50% hím, 50% hermafrodita, 0% autogá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hu-HU" sz="2200" spc="-1" strike="noStrike">
                <a:solidFill>
                  <a:srgbClr val="333399"/>
                </a:solidFill>
                <a:latin typeface="Arial"/>
              </a:rPr>
              <a:t>Coenorhabdis briggsae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: 10% hím, 90 % hermafrodita, 0% autogá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4689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gvan a variabilitás, de relatíve kevés lesz a h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rmakompetíci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gy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ímivarsejtje lekompetál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y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varsejtjét (nincs önmegtermékenyíté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y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varsejtjét is (több hermafrodita lesz)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romoszóma önző genetikai elem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ének rovására működ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ak hím hímivarsejtben önző, genomi imprinting v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52549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1240" y="4581360"/>
            <a:ext cx="15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vé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Összes taxon 0.1 %-ában találtak ilyen szaporodási mód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zűznemző populációkban nincs hím, nincs rekombináci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tációk nem kombinálódhatnak, adott előnyös mutáns allél sikere teljes mértékben a szomszéd génektől füg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lált aszexuális populációk többségében idővel megtalálták a hímek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3429000"/>
            <a:ext cx="2638440" cy="304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szexuálisok filogenetikai eloszlása sajá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ltalában szexuális rokonokból alakulnak ki, hibridizációval va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oliploidiáv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gyirányú út, nem tudnak visszaalakulni szexuáliss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halnak, mielőtt diverzifikálódhatnán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alószínűleg tehát nem jó hosszú távú straté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övid távon előnyös leh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extrém környezet, üres niche radiáci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usztráliai gyíkok, egyenesszárnyúak, akáciá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054320"/>
            <a:ext cx="9144000" cy="2803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éhány makacsul aszexuális taxon igen szúrja a teoretikusok szemé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200" spc="-1" strike="noStrike">
                <a:solidFill>
                  <a:srgbClr val="3333cc"/>
                </a:solidFill>
                <a:latin typeface="Arial"/>
              </a:rPr>
              <a:t>Bdelloidea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erekesféreg-család fajai, 80-100 millió éve n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kombinálódó genommal. (Maynard-Smith: aszexuális botrány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3333cc"/>
                </a:solidFill>
                <a:latin typeface="Arial"/>
              </a:rPr>
              <a:t>Darwinula</a:t>
            </a:r>
            <a:r>
              <a:rPr b="0" lang="hu-H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ákok fosszíliáiban kb.100 millió éve nincs h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Diplomonád protisták (pl. </a:t>
            </a:r>
            <a:r>
              <a:rPr b="0" i="1" lang="hu-HU" sz="2200" spc="-1" strike="noStrike">
                <a:solidFill>
                  <a:srgbClr val="0033cc"/>
                </a:solidFill>
                <a:latin typeface="Arial"/>
              </a:rPr>
              <a:t>Giardia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 szintén ősi aszexuáli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Aszexuális populációk és a parazitá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elekciós hátrányban vannak a szexuális populációkkal szemben, azok kikompetálhatják ő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eltételezik, hogy esetleg más módon védekezhetn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ltalában rövid életciklusúak, ami megnehezíti a paraziták alkalmazkodásá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érbeli vagy időbeli diszperzióval elmenekülhetnek a fertőzött populációbó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ariabilitást más módon fenntarthatják (legalábbis rövid idei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gysejtűeknél kettéosztódáskor lehetséges, hogy az összes parazitát csak az egyik utódsejt örökli. Így a másik teljesen mentes lesz. Az osztódási sebesség növelésével ezt a tisztítóhatást növelhet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Aszexuális populációk és Müller racsn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ssíthatják vagy megállíthatják a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acsnit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bizonyos mechanizmusokk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övid genom és kis mutációs ráta esetén kicsi a mutációs felület, így megúszhatjá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ompenzációs mutációkkal kijavíthatják a káros mutációk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liploidia gyakori náluk, ez csökkentheti a mutációs veszély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 az aszexuálisoknak probléma, a sejtorganellumoknak miért n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Aszexuális populációk és az enyhe mutáció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zek ellen védekezhetnek úgy, hogy nem fejlesztenek javító mechanizmust. Javítás lehet tökéletlen. Ha mutáció letális, egyed így az nem tudja örökíteni a javított, de még így is esetlegesen kicsit káros hatást. Populációból eltűn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övelhetik a mutációs rátát a genom némely részében, ahol a hasznos mutációk esélye nagyobb (hot spots). Baktériumoknál működh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nyi szex optimál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zexuális vagy aszexuális szaporodás nem obligát, ismertek populációk, ahol mindkét forma előford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enetikai variabilitáshoz elegendő, ha utódok csak kis része produkálódik szexuális úton. Sokkal kifizetődőbb lenne, ha az utódok nagy része aszexuálisan szaporod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ing over és a rekombináció mégis nagyon elterjedt és általá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étféle szaporodás váltakozása instabilitást okozhat a populációban, pl. (mutációs ráta megnövekedésével), és ez kedvez a szexualitás állandósulásána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hetnek más tényezők is, pl. imprinting kialakulása (egyik nem önmagában nem elég, emlősök pl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zexualitás így lehet “egyirányú utca”, de a miértje nem tisz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 egy aszexuális populáció megoldja a mutációk és a paraziták leküzdésének problémáját, akkor a nagyobb reproduktív potenciál miatt előnyben van a szexuálisan szaporodó populációkkal szemb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éhány megoldás a szex költségeinek lefaragásá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a szex gyakoriságának csökkentésé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mzedékváltakozás (pl.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evéltetvek, rákok, Hymenopte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az ivararány sodródásáv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Caenorhabdit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éreg es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3:39:54Z</dcterms:created>
  <dc:creator>Szabó Krisztián</dc:creator>
  <dc:description/>
  <dc:language>en-US</dc:language>
  <cp:lastModifiedBy>Szabó Krisztián</cp:lastModifiedBy>
  <dcterms:modified xsi:type="dcterms:W3CDTF">2008-04-23T22:54:24Z</dcterms:modified>
  <cp:revision>5</cp:revision>
  <dc:subject/>
  <dc:title>1. dia</dc:title>
</cp:coreProperties>
</file>