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945A-1595-4D31-8C0F-38ACFF59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828-FF21-4A04-8DBA-C2F0F134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949-F627-41D2-AF20-FCB8A22D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3E9B-3BC3-49D6-BA45-3EDE673A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B7FA-66E9-442E-A411-30FAD7AA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BE37-8F25-4455-9917-96413A6E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D02F-EE7C-4056-8211-262BE37E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7A44-F773-4F99-9DFD-710AAC5F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9F54-50CF-461D-8C33-0100D3DF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36FF-3E78-45A9-A7D2-16008D89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67B-5232-415B-ACE9-71E536D0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E73-3757-4B51-B89A-53DF6BFD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D3FB-26BB-4D50-998C-D8B07C9D4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454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árzási ren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dszer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Explozív párzási csoportosulá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õstények tömegesen és együttesen ívnak, vagy raknak ikrá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erritóriumtartás nem lehetséges a nagyszámú rivális (sok hímet vonz a lehetõség) és rövid idõ miatt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tengeri tõfarkú rák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Limulus poliphemus) nõstényei csak pár éjjel és egy adott területen rakják le tojásaikat egy évben, ha jók a parton a körülmények. Ekkor a hímek a tömegben csak gyors és kitartó kereséssel juthatnak sok nõhöz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Barna varan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153280" cy="4973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04920" y="838080"/>
            <a:ext cx="83818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4. Lek-poligínia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Nõstények egyenletesen és nagyon szétszórva találhatók, nincs állandó csoportösszetétel, vándorolniuk kell, vagy a rendelkezésre álló erõforrások sokáig és megjósolhatatlanul léteznek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Nem lehet a nõstényeket direkt vagy indirekt módon monopolizáln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Lek: ritualizált territórium, amelyen a hímek valamilyen attrakciót mutatnak be, nõstény a mutatvány alapján választ. A védett territórium itt jelkép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nőstény a hímektõl kizárólag a spermát (géneket) kap, hím nem vesz részt az utódnevelésben. Nõstény választhat jó gént, vagy direkt hasznot (kondíció, parazitamentesség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43000" y="304920"/>
            <a:ext cx="6629400" cy="6027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62120" y="457200"/>
            <a:ext cx="7315200" cy="5784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00200" y="228600"/>
            <a:ext cx="5996160" cy="6629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143000" y="380880"/>
            <a:ext cx="6781680" cy="609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1676520" y="228600"/>
            <a:ext cx="5648040" cy="6629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990720" y="304920"/>
            <a:ext cx="7696080" cy="5649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838080" y="380880"/>
            <a:ext cx="7772400" cy="59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6" dur="1" fill="hold"/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iért aggregálódnak a hímek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1. Hot shot hipotézi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nõstények által leginkább preferált hím körül csoportosul a többi hím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nõstény csak rajtuk keresztül jut csak od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ajzsos cankó domináns hímet eltávolítva a szélsõbb hímek átvették a középen lévõ terület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ámvadaknál domináns hím lekjét letakarták, máshová kellett mennie. A többi hím ismét körülötte gyûlt öss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981080" y="0"/>
            <a:ext cx="4953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2. Hot spot hipotézi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hímek a nõstények által kedvelt és használt helyeken gyûlnek össze, mer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itt nagy esélyük van a találkozásr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k lek-es rovar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olibrik és légykapók gyakori útvonalakon és preferált helyeken (pl. ivóhely)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utoga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a topográfiai mintázat fontos.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3. Nõi preferencia hipotézi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sok hím odavonzza a nõket, mert sok hím esetén gyorsan (nem kell so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idõt keresgéléssel tölteni) és biztonságosan választhat és pározhat 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nõstény.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ganda kob antilopoknál a nagy hím-csoportosulások arányban nem vonzottak több nõstényt, mint a kisebbe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jzsos cankó esetében viszont feltételezik, hogy mindhárom tényezõ együtthath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80773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Lek poligínia és extrém hölgyválasz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Általános, hogy a lekezõ fajoknál a hímek nagyon kis hányada párzik 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nõk nagyrészével, a nõstény preferencia nagyon el van tolódva bizony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hímek felé. Általában a hímek 10-20 %-a adja a párzások 50%-át, a több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lig, vagy nem jut nõstényhez.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 fehérhátú manakin (amerikai énekesmadár) 483 párzást figyelve, azok 75%-át egy adott hím bonyolította le, 13%-át egy másik, 12%-át még négy egyed. A többi hím nem jutott párho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 kalapácsfejû denevérnél egy vizsgálatban hat hím párzott a nõk 80%-áv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381560" y="3478320"/>
            <a:ext cx="4762440" cy="3379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969160" y="0"/>
            <a:ext cx="3174840" cy="4483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990720" y="0"/>
            <a:ext cx="579096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lek-paradoxo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szelektív hölgyválasz miatt direkcionális szelekció érvényesül, a választott jelleg varianciájának el kéne tûnnie. Variancia sok esetben nem csökken, a kis, kevésbé színes, stb. hímek is megmaradnak a késõbbi generációkba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gyes magyarázatai szerint a megnövekedett jellegekre irányuló szelekcióval együtt szelekció hat a jellegek varianciáját fenntartó genetikai mechanizmusokra i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ásik magyarázat: másodlagos jellegek költségesek, így kondíció-függõek. A kondíció viszont poligénes tulajdonság. A nemi jellegre irányuló erõs szelekció nem irányul a kondíciót befolyásoló sok génre, így azok változatosak maradnak, és emiatt a szexuálisan szelektált jelleg varianciája megmarad az erõs nõi preferencia ellenér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2916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Monogámia</a:t>
            </a:r>
            <a:br>
              <a:rPr sz="3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7921800" cy="47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legtöbb állatfaj hímjét poligínnek kell tekinteni (egy szezonban több nõsténnyel párzik), ez az optimális módja a szaporodási sikerük maximalizálásának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Miért alakulhattak ki akkor monogám és poliandriás rendszerek? Miért marad a párja mellett a hím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Párõrzési hipotézis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(Mate guarding)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Érdemes lehet nõsténnyel maradni és õrizni a többi hímtõl, mert így biztosított az apaság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Ott hatékony, ahol a nõstény a párzás után is fertilis marad, vagy nehéz megtalálni. Megtalált nõsténnyel jobb maradni és várn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ohócrák (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Hymenocera picta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) nõsténye csak rövid ideig recepív, és elszórva élnek, a hím megtalálva vele marad és vár az ivarzás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élytengeri halaknál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7315200" cy="5527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74296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2. Pársegítõ hipotézi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(Mate assistance)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kkor marad a hím a nõsténnyel, ha az utódok felneveléséhez kell a segítsége, mert nagyon növeli az utódok túlélési esélyeit, vagy az utódok nélküle nem is élnek tú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sikóhalaknál a hímek költõzacskójában fejlõdnek a megtermékenyített peték. A hím nem tud más nõsténnyel párzani, mert nem fér már több pete el nála. Hûségre kényszerül, de az utódok kikelése után újra pározhat eredeti párjáv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3. Nõstény-erõszak hipotézi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(Female-forced monogamy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nõstény valamiféle módon maradásra kényszeríti a hím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ophorus defodiens temetõbogárnál, ha a hím nõsténycsalogató feromont termel, a párja megtámadja. Ha más nõstény is az õ dögébe rakná petéit, azok csökkentenék saját fiókáinak esélyeit.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905120" y="304920"/>
            <a:ext cx="5180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s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zaporodásisiker-maximalizálás módja eltérõ a két ivarnál az egy utódba való befektetés alapvetõ aszim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etriája miat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hím optimális stratégiája minél több nõstény (és a bennük lévõ ivarsejt) monopolizálása, míg a nõstény a hím szülõi aktivitását monopolizálva tudja leginkább biztosítani szaporodási sikeré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Ezek és az ökológiai körülmények sokfélesége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miatt alakult ki olyan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okféle párzási rendsze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3454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árzási rendszer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Emlõsök 4%-ában monogám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(Kutyafélék, fõemlõsök, rágcsálók, rovarevõk, menyétfélék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Nõi befektetés nagyon nagy, utód erõsen az anyához kötöt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Hím nem tud hatékony apa lenni, szexuális szelekció a poligíniának kedvez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10%-ban találtak hím gondoskodást, ekkor a pársegítõ hipotézist feltételezik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réripocoknál születés után az almot kettéosztva egyik felét a hím melengeti és véd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 farkasoknál és vadkutyáknál õsi monogámia. Csak alfa hím és nõstény szaporodik. Két szülõ sem tudja ellátni az utódokat. Falka más tagjai segítenek etetni és szoptatni. </a:t>
            </a:r>
            <a:br>
              <a:rPr sz="2000"/>
            </a:br>
            <a:r>
              <a:rPr b="0" lang="hu-HU" sz="2000" spc="-1" strike="noStrike">
                <a:solidFill>
                  <a:srgbClr val="ccccff"/>
                </a:solidFill>
                <a:latin typeface="Times New Roman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7619760" cy="5172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523880" y="228600"/>
            <a:ext cx="5867640" cy="4944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66680" y="304920"/>
            <a:ext cx="6477120" cy="5262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447920" y="228600"/>
            <a:ext cx="556236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0" dur="1" fill="hold"/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madaraknál 96% a monogám fajok arány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Itt a hím is lehet nagyon effektív szülõ (etet, véd, melegít), utód is igényli a biparentális nevelés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Ott gyakori, ahol szinkronban költenek a nõstények, egyszerre állnak párba, így kevés éppen nem párban lévõ nõstény va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Itt is pársegítési, esetleg párõrzési mechanizmus lehe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irti fecskéknél a monogám hímek átlagosan 0,8 utódot röptetnek ki, míg poligám társaik csak 0,3-at. Elõnyös tehát itt a monogámia, mert akkor egy-egy utódba többet tud allokáln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79758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Párok kívüli kopulációk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(Extra-Pair Copulation, EPC)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Egyes, monogámnak feltételezett madárfajoknál genetikai vizsgálatok kiderítették, hogy akár 50% is lehet a fészekben az idegen utódok szám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Hímnek EPC nyeresége: más hímek szülõi aktivitását parazitálja, az utódszámot hatékonyan és olcsón növelni tudj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Költsége: lehetõvé teszi más hímekkel EPC-zel a párjuk. Fogékony idõszakban szorosan követik párjuka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Nõsténynek haszon lehet genetikai vagy direkt. EPC-s hím segíthet a fiókákat etetni, védi a fiókáka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primer hím viszont EPC-t látva csökkentheti a szülõi befektetésé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28432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Poliand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619280" y="981000"/>
            <a:ext cx="604980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Viszonylag kevés fajnál fordul elõ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Nõstény monopolizálja, elfogadja több hím spermáját vagy szülõi erõfeszítését (hím szempontból monogámia van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Általában valamilyen kényszerítõ ökológiai faktor következtében, mindig összefügg a szülõi gondoskodássa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Lehet territórium- vagy hímvédõ poliandri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 piros nyakú phalarope vízimadár hímvédõ poliandriát mutat, a párzásig a hímet õrzi, aztán elhagyja, és keres újabb hím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Új-Zélandi pukeko madárnál a fészkelõhely igen ritka, a hímeknek megéri kooperálni más hímek ellen, együtt nevelve az egy nõstény által tojt tojások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z északi jasszána: nõstény nagyobb, agresszív,védi a territóriumokat is, melyen több hím elfér. Ovicidek is. Valószínûleg a labilis környezet, a fészekaljak gyakori pusztulása miatt alakult ki ez a nõstény szaporodási sikerét leginkább növelõ párzás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rendsz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2104920"/>
            <a:ext cx="7229520" cy="4753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590920" y="2401920"/>
            <a:ext cx="6553080" cy="4456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066680" y="0"/>
            <a:ext cx="678204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Északi cankónál is a nõstény udvarol, õ érkezik a fészkelõhelyre elõször, és õ tartja a territóriumot. A szaporodási sikere jobban függ a szülõi aktivitástól, mint saját gamétaszámától, mert több fészekaljnyi tojást is képes termelni. A terület ilyenkor igen gazdag, egy szülõ is eredményes lehet, nagyban növeli a szapoprdási sikerét az, ha ha minél több fészekaljat rak, és a hímre bízza, majd odébbáll más hímhe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mlõsöknél ritka a jelenség, karmosmajmoknál a leginkább ismert. Itt a anya két utódot szül, amit két férjére bíz, azok cipelik. A hímek nem biztosak az apaságban, mindkettõ párosodhat vele, ezért nem tudják, hogy a sajátjukat cipelik-e. Így mindkettõ a nõsténnyel marad (mert azért van esély, hogy a sajátjuk az egyik, vagy mindkét utód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43000" y="2087640"/>
            <a:ext cx="7315200" cy="4770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209680" y="0"/>
            <a:ext cx="39639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443700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é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914400"/>
            <a:ext cx="3276720" cy="60948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Utódgondozási ren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14800" y="990720"/>
            <a:ext cx="1752480" cy="53316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O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05720" y="990720"/>
            <a:ext cx="2438280" cy="60948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Párzási ren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2286000"/>
            <a:ext cx="3276720" cy="60948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Utódgondozási ren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86000"/>
            <a:ext cx="1752480" cy="53352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O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2286000"/>
            <a:ext cx="2438280" cy="60948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Pártalálási esé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3581280"/>
            <a:ext cx="3276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Utódgondozási ren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5943600"/>
            <a:ext cx="2438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Párzási ren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4876920"/>
            <a:ext cx="24386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Pártalálási esé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5943600"/>
            <a:ext cx="24386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Párzási stratégi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581280"/>
            <a:ext cx="24382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Utódgo. stratégi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581280"/>
            <a:ext cx="220968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orrás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elosz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Predác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219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1295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248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6324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49568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572000" y="5714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Utódgondozás és párzási rendszer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332000" y="981000"/>
            <a:ext cx="626436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226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Poligí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064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eg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általánosabb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párzási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rendszer, a legtöbb állatfaj hímjét poligínnek kell tekinteni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ím monopolizálja számos nõstény ivarsejtjeit, (és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ezek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hordozó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m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nopolizálás módja fõleg a nõk eloszlásra ható tényezõitõl és a nõk fertilitásának hosszától függ, így a polig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í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a többféle formáját különböztetik meg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õstényvédõ poligíni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Nõstények nagyon jól védhetõ csoportokban, könnyû  a csoport monopolizálása és más hímek kizárás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gyes trópusi denevérek nõstényei a barlangban csokorban lógnak a plafonról. és a kis csokrokat õrzik a híme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ihonocetina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rák csigaházban lakik. A hím 2-3 nõt házastul magához ragaszt, és így a lányok mindig közel vanna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efántfókák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rillák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és vadlovak háremei.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09480" y="762120"/>
            <a:ext cx="8229600" cy="4460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95280" y="533520"/>
            <a:ext cx="64008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nõstényeknek hátrányos, ha a hím esetleges apai befektetését fel kell egymás között osztani, és a csoportosulás megkönnyíti a monopolizálásuka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De: c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oportosság elõnye meghaladhatja a monopolizálhatóságból adódó veszteségeke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sárgahasú mormoták matrilineárisak. A nõstények szaporodási sikere csökken a csoportnagysággal, nekik a monogámia lenne ideális. De lehet, hogy az élettartam alatti szap. siker nagyobb a nagyobb csoportban, talán ragadozás miatt. Vagy mert költséges elkergetni a többi nõstényt, mivel a források foltosan helyezkednek el, aköré érdemes tömörüln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roszlánoknál a nõstények harcolnak a territóriumért. Magányos nõstény nem tud megfelelõ vadászterületet egyedül fenntartani, elõnyös a csoport. A hímek ellen is jó, a koalíciók tagjai védelmezhetik egymás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utódait az infanticid hímektő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5791320" cy="3859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62120" y="0"/>
            <a:ext cx="75438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. Erõforrás-védõ poligíni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õstények nem szoros csoportban élnek és egy adott területen használható források halmozva vannak, vagy fontosak nek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Hím nem nőstényt, hanem területet monopolizál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Calopteryx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szitakötõk úszó növényzetre petéznek, a hím, amelyik sikeresen véd egy-egy ilyen területet, monopolizálhatja az odatérõ nõstényeke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amprologus callipteru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bölcsõszájú hal üres csigaházba ikrázik. A hím a területére gyûjthet több csigaházat is, sok nõstényt odacsalv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topi antilopok szívesebben legelésznek a zöld, dúsabb füvû helyeken, amit a hímek ki is használnak, és elfoglalják ezeket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6629400" cy="4383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38080" y="0"/>
            <a:ext cx="6400800" cy="4335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371600" y="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" dur="1" fill="hold"/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nõsténynek a legelõnyösebb a monogámia (teljesen monopolizálja a hím utódgondozását). Miért párzik akkor sokuk egy már párba állt hímmel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poligínia-küszöb modell: Variábilis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minőségű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territóriumoknál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oglalt, de jó területû hím jobb, mint szabad, de rossz területû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ehet, hogy becsapják a nõstényeket, nem tudja megítélni a hím státuszá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3. Tülekedõ (scramble) poligíni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hol rövid a szaporodási szezon és a nõstények nagyon szétszórtak vagy nagyon tömegesen, egyszerre, egy helyen gyûlnek össz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Nem lehet sem nõt, sem territóriumot védeni, mert nincs rá idõ és nagyon nagy a költsé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Versengés legjobb módja a tülekedés.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Gyorsan sokat egymás utá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hotinu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ûzbogaraknál a nõstények párzási idõben tömegesen jelzik fogékonyságukat, nagy területeken szétszóródva fényjelzéseket adnak a hímeknek, akik keresik õket. Sokat kell keresni és repülni egy-egy nõstényért. A legkitartóbb és legügyesebb, nem a legagresszívabb vagy legerõsebb hím a nyer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tizenhárom csíkos földimókusoknál a szezon csak 3-4 hét, és egy nõstény ezen belül is csak fél napig fertilis, messze vannak egymástól a fészkek. A legelsõ jókor jövõ a nyertes hím, átlagosan az utódok 75%-a tõle származik (több hím is megtalálhatja a nõt). Jó térbeli memória is elõnyö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3429000" cy="3554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143000" y="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743200" y="0"/>
            <a:ext cx="563868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6" dur="1" fill="hold"/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14:39:27Z</dcterms:created>
  <dc:creator>VÖCS</dc:creator>
  <dc:description/>
  <dc:language>en-US</dc:language>
  <cp:lastModifiedBy>Szabó Krisztián</cp:lastModifiedBy>
  <dcterms:modified xsi:type="dcterms:W3CDTF">2008-04-28T22:21:20Z</dcterms:modified>
  <cp:revision>110</cp:revision>
  <dc:subject/>
  <dc:title>Alternatív párzási fenotípusok</dc:title>
</cp:coreProperties>
</file>