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897-02F7-4018-973D-1A7483EE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58D-AECD-46AF-B464-6D763CF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D53-7A89-4CF3-9CFA-691F0A26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DB6-6646-44EE-B8D2-F80CD16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CDD-225D-455F-8153-8E4FF4A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F26-9536-499A-AD84-E70DA8CE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DA8-BE03-4204-AAA3-26C0DCF4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FCF-45F8-4EE7-B5EA-3792C47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105-D81E-45E6-8032-6B3149BF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EE4-739F-499E-9C43-F943351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40F-A34A-46BB-830F-95D0A8E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C52-59B4-4483-9674-583B127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3B49-1876-42DD-B077-79B73FB3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eki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úciós konflikt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5796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genom kutyuló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sejt fuzio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egyed hozza lé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utód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24360" y="620640"/>
            <a:ext cx="4413240" cy="554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79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924360" y="620640"/>
            <a:ext cx="4414680" cy="554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24360" y="620640"/>
            <a:ext cx="4414680" cy="554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24360" y="2852640"/>
            <a:ext cx="863640" cy="0"/>
          </a:xfrm>
          <a:prstGeom prst="line">
            <a:avLst/>
          </a:prstGeom>
          <a:ln w="507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720" y="493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xuális konflik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ímek és nőstények érdekei eltérőek, így a párzás és utódnevelés során a felek számos konfliktussal szembesül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-zigotikus ivari konflik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árzás előtt/párzáskor (partnerek közöt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szt-zigotikus szexuális konflik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árzás után (szülők közö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ülő-utód konflik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720" y="493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560" y="0"/>
            <a:ext cx="6094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szt-zigotikus szexuális konfliktu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gi szemlélet: A felek érdeke a közös szaporodási siker maximalizálása, harmónia és kooperáció van a felek kö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sőbb: A felek egyéni és nem a közös fitness maximalizásra töreked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z utódnevelés sorá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i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ele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dekei eltérőe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timáli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í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ég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ne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k nõsténnyel való pár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õstény stratégiája: párzani, hímet nevelésre bírni, lelépni és új forrásokat keresni az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tód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dukál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2160" y="10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59320" y="0"/>
            <a:ext cx="5584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ülő-utód konflikt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dekkülönbségek vanna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t 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z utó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deke: szülő 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z õ nevelése alatt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alizálj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a nevelési befektet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ülő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õsorban a szaporodási si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 TÁV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ximalizálásra törekszen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ményezheti, hogy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esebbet, va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etleg semennyit sem gond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2160" y="10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2160" y="10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ed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93080" y="1484280"/>
            <a:ext cx="574560" cy="21600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932280"/>
            <a:ext cx="576360" cy="144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84720" y="3500280"/>
            <a:ext cx="574920" cy="21600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0360" y="2637000"/>
            <a:ext cx="1582920" cy="79200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fliktus: fontos evolúciós hajtóe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e minden nagyobb evolúciós lépésben feltételezik a  szerepü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varos szaporodás kialakulása és fenntart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verdeterminációs rendszer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enomméret evolúció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kombiná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ióz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izogám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jképződ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ploidia 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956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fliktus = érdekellent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unkcionális szemlélet / konfliktusközpontú néző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rsadalomtudományokb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rx: a társadalom, mint konfliktusok aréná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ológiában XIX sz.végé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Darvin: az egyes rendszerek alegységei nem feltétlenül a „közös jó” érdekében tevékenyked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nfliktusközpontú szemlélet ma már a biológia számos területen meghatároz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tracelluláris rendszerekné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gtöbbször funkcionális nézőpont (szimbióz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tka a konfliktusközpontú megközelí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sher 19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ldane 19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tergen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wkins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2360" y="493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konfli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88000" y="3213000"/>
          <a:ext cx="4171680" cy="343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213000"/>
                    <a:ext cx="41716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012000" y="4292640"/>
            <a:ext cx="1944720" cy="1585800"/>
            <a:chOff x="6012000" y="4292640"/>
            <a:chExt cx="1944720" cy="1585800"/>
          </a:xfrm>
        </p:grpSpPr>
        <p:sp>
          <p:nvSpPr>
            <p:cNvPr id="50" name=""/>
            <p:cNvSpPr/>
            <p:nvPr/>
          </p:nvSpPr>
          <p:spPr>
            <a:xfrm>
              <a:off x="6227640" y="4292640"/>
              <a:ext cx="936720" cy="216000"/>
            </a:xfrm>
            <a:prstGeom prst="line">
              <a:avLst/>
            </a:prstGeom>
            <a:ln w="73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2000" y="4653000"/>
              <a:ext cx="288720" cy="863640"/>
            </a:xfrm>
            <a:prstGeom prst="line">
              <a:avLst/>
            </a:prstGeom>
            <a:ln w="73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7740720" y="4941720"/>
              <a:ext cx="216000" cy="936720"/>
            </a:xfrm>
            <a:prstGeom prst="line">
              <a:avLst/>
            </a:prstGeom>
            <a:ln w="73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ző genetikai elemek (ÖGE, Östergen 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vábbadódásuk csak saját maguk számára előnyös, a gazda más génjei (genom) szempontjából 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 egyik génnek előnyös, az más kapcsoltságban örökítődő génnek lehet hátrá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GE nem a hordozója fitnessének növelésével segíti saját terjedését, hanem saját túlreprezentálásával, a többi gén rov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360" y="493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konfli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7345440" cy="25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2360" y="493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konfli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7345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onfliktusban álló f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enetikai konfliktus mindig egyeden bel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GE + kapcsolt gének / többi genetikai 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térő genomok (nukleáris / citoplazmatik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nos genomban eltérő örökítődésű egység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ivari kromoszómák / autoszóm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2360" y="493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konfli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GE –k szelekciós nyomást gyakorolnak az ellenérdekelt félre, hogy szupresszorokat fejlesszenek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olúciós fegyverkezési verseny, változatos kimenete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genetikai konfliktusok evolúciós következmé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éhány kiragadott pél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2360" y="493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konfli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upraindividuális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5256360" cy="39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0720" y="493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438720" cy="22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765000"/>
            <a:ext cx="663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pc gyak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ím és nőstény is félrelé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indkét szülő dezertál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észekalj elpuszt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aptív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özös érdekekkel nem leh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gyaráz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edi érdek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720" y="493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d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onflikt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64000" y="2852640"/>
            <a:ext cx="3065760" cy="3745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9920" y="6040440"/>
            <a:ext cx="632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sher 1930, Haldane 1932, Lewis 1942, Trivers 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05:05Z</dcterms:created>
  <dc:creator>Szabó Krisztián</dc:creator>
  <dc:description/>
  <dc:language>en-US</dc:language>
  <cp:lastModifiedBy>Szabó Krisztián</cp:lastModifiedBy>
  <dcterms:modified xsi:type="dcterms:W3CDTF">2008-04-27T19:55:36Z</dcterms:modified>
  <cp:revision>64</cp:revision>
  <dc:subject/>
  <dc:title>Szexuális szaporodás: konfliktusok minden szinten</dc:title>
</cp:coreProperties>
</file>