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3BE-D778-4586-81C6-6DA1DEAB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770-7A4C-476B-BA3E-B9458212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AD7-21F1-4AAB-A3F8-58F2F0F8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469-B6DE-4952-99A3-27FEE8B7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A28-6BD5-483F-B15F-E4F70CED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2DA-BE80-4431-941E-5ACD4337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3C4-94D6-46F0-93B9-BFA746EB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952-78E1-4489-B89D-67E50ED8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224-1903-4357-B9BA-D47D628C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013-FD16-4471-B5C6-398882AB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565-8BC2-4A76-87D8-8C639B40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6F5-D912-4294-B931-FD691AE1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A80C-35EE-4C0E-8BE0-3940237FB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zülõi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befekteté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 Ivarsejt-kieresztés sorrendje számí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nõstény valószínûbben marad a fertilizált tojásokkal, ha õ hordja ki a testében az utódokat, a hím ilyenkor leléphet. Belsõ megtermékenyítésnél kizárólagosnak kéne lenni a nõi nevelésnek. Külsõ fertilizációnál viszont hím nevelés kell, hogy legyen a gyakoribb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l és kétéltû családok: Belsõ megtermékenyítésûeknél 14%-ban hím, 86 %-ban nõstény nevel, külsõ fertilizációnál 70%-ban hím, 30%-ban a nõ nevel. Tendencia megfelel a hipotézisnek, de sok kivétel van. (Sok partimadárnál, belsõ fertilizációs békáknál, szimultán ivarsejt-kiengedésû halaknál hím nevel inkább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4. Az utóddal való összekapcsoltság számí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ivel nõ hordja ki, termeli meg, esetleg szoptatja az utódot, õ van olyan helyzetben, hogy hatékonyan segítsen az utódnak. Hímnek sokszor nincs direkt kontrollja a gondozásban, gyakran fizikailag is szeparált az utódtó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995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ivételek, ahol a hím n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9640" y="549360"/>
            <a:ext cx="507852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Ha a nevelésbõl adódó -az utódok megnövekedett szaporodási sikerébõl következõ- reproduktív haszon egyforma is a két nem esetében, attól még eltérés lehet a két nemnél a befektetés mértékébe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hím fõ költsége az egyéb potenciális párokkal való párzás kihagyása miatti fitness-veszteség. Ha gondoz, nem tud újabb nõket keres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nõstény költsége iteropár fajoknál fõleg a késõbbi reproduktív potenciál csökkenése miatti fitness-veszteség (a végig növekedõ fajoknál növekedés lassulása is). Drága az õrzés, mert nem táplálkozha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z õrzõ hímnek ez kisebb problémát jele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tüskés pikónál a hím õrzi az ikrákat és kishalakat, védi õket a ragadozóktól és a kannibál fajtársaktól. Ha egy ilyen kannibál csoport érkezik, eltereli a figyelmüket, de nem tud párzani a csoport nõstényeivel. Olyan populációkban, ahol nincs kannibalizmus, nem kell a fajtárstól tartani, ott a hím párosodik a nõstényekkel, amelyeket vonzhat az õrzõ hí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elostomatid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óriás vízipoloska fajoknál a fejlett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í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ndozás két formája is megtalálható. Nõstény a növények víz feletti részeire vagy a hím hátára ragasztja a nagy tojásokat.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ímnek olcsóbb lehet az õrzés, az intenzív munka miatti koplalás nála kevesebb hátránnyal jár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rophorus orbicoll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emetõbogár nõsténye egy földbe ásott tetembe tojja petéit, és a hímmel együtt õrzi a kannibáloktól és predátoroktól. Ha hímet eltávolították egy kísérletben, az utódtúlélés nagyban csökkent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5486400" cy="3817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9568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603520" y="2158920"/>
            <a:ext cx="6540480" cy="469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651120" y="2997360"/>
            <a:ext cx="22654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tód-diszkriminá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ok esetben, fõleg kolóniában vagy tömegesen költõ és szaporodó fajoknál elõnyös, ha kifejlõdik valamiféle saját-nem saját utód-elkülönítõ mechanizmus. Óriási költség és luxus a nem saját géneket hordozó utódba energiát fektetni. Ilyen esetben fejlett fajfelismerés adaptív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gy barlangi mexikói denevérfajnál akár 4000 utód/nm is csünghet a plafonról egy kolóniában, de az este szoptatásra hazatérõ anyák pontosan rátalálnak az utódra, azok egyedi hangjelzése alapj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közel rokon füsti és szirti fecskék esetében azt tapasztalták, hogy a telepes szirti fecskék fiókájának a hangjelzése sokkal egyedibb, mint az elkülönülten fészkelõ füsti fecskéé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likánoknál nincs fiókafelismerés, de a tömegesen kajára váró gyerekek szétosztják egymás között a (ki tudja kitõl) kapott halakat. Ilyen a vámpírdenevérek esete 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337520" cy="5006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438280" y="457200"/>
            <a:ext cx="3830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0" y="0"/>
            <a:ext cx="298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zülõ-utód konflik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32000" y="549360"/>
            <a:ext cx="633564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viszony a szülõ és utód között nem feltétlenül kölcsönösen pozitív. A szelekció két irányban hat a résztvevõknél, mivel érdekkülönbségek vannak köztük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z utód késõbbi szaporodási sikere elsõsorban a jelenlegi túlélésének valószínûségétõl függ, számára elõnyös ha a szülõk befektetésüket az adott idõben (az õ nevelése alatt) maximalizáljá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szülõnél trade-off van a jelenlegi és késõbbi reproduktív események között. Õk elsõsorban a szaporodási siker hosszú távú maximalizálásra törekszenek, ami azt eredményezheti, hogy kevesebbet, vagy esetleg semennyit sem gondoz (pl. rossz körülmények esetén az õ túlélése elsõdleges, nem tud még az utódba is allokálni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Concord-csap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7128000" cy="5348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95640" y="2060640"/>
            <a:ext cx="1152720" cy="28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205000"/>
            <a:ext cx="1297080" cy="21600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716360" y="3068280"/>
            <a:ext cx="936720" cy="863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4005360"/>
            <a:ext cx="1297080" cy="215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4365720"/>
            <a:ext cx="1297080" cy="215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2637000"/>
            <a:ext cx="792000" cy="72072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3860280"/>
            <a:ext cx="1752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vé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Párzás után újabb fontos döntési helyzet: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gyed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ektessen-e be energiát, idõt, aktivitást a szülõi gondoskodásba, így növelve az esélyt, hogy utódaik megérik a szaporodóképes kort, és a szülõk génjeit továbbörökítik, vagy hagyják sorsukra az utódoka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Clutton-Brock: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Utódgondozás az a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zülõi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tevékenység, amelyik növeli az utódok túlélési esélye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rivers: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z utódgondozás az a tevékenység, melynél a szülõ az adott reprodukciós idõszakban az utódokba fektet energiát, idõt, stb. a késõbbi reprodukciós események rovására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Gondozás növeli a jelenlegi utódokból származó fitness-nyereséget, de csökkenti a szülő reziduális reproduktív értéké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z állatok többsége nem nevel, valószínûleg más tevékenység kifizetõdõbb szaporodási sikere maximalizálásában (pl. táplálkozni, másik párt keresni,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stb.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83960" indent="-1839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Némely állat viszont nagy energiát allokál a szülõi szerepb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39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3960" indent="-1839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ásik fontos döntés: egyik- vagy mindkét szülõ nevelje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39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3960" indent="-1839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z eredmény nagyban függ az ökológiai környezettõl és az utód igényeitõ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39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3960" indent="-1839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elegvérûeknél anya teste szükséges az utód fejlõdéséhez,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z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leve aszimmetriát okoz a szülõi szerepvállalásb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39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39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indez a szülõi aktivitás nagyarányú diverzitásához vezet, az egyáltalán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nem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nevelõtõl az extrém módon gondoskodókig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39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3960" indent="-183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sászárpingvineknél a hím nagyon hosszú ideig üli az egyetlen tojást a déli-sarki tél idején. Ezalatt a nõstény táplálkozik, a hímek egyáltalán nem eszne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6858000" cy="5897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7543800" cy="579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609480"/>
            <a:ext cx="8153280" cy="5510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990720" y="533520"/>
            <a:ext cx="7315200" cy="5279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09480" y="762120"/>
            <a:ext cx="7467840" cy="4962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990720" y="254160"/>
            <a:ext cx="6933960" cy="6603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28600" y="838080"/>
            <a:ext cx="7924680" cy="552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33520" y="609480"/>
            <a:ext cx="7848360" cy="557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219320" y="990720"/>
            <a:ext cx="6286320" cy="4400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1371600" y="685800"/>
            <a:ext cx="6095880" cy="5199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380880" y="1066680"/>
            <a:ext cx="7315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762120"/>
            <a:ext cx="3276720" cy="6094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tódgondozási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838080"/>
            <a:ext cx="1752480" cy="5335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762120"/>
            <a:ext cx="2438280" cy="6094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árzási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057400"/>
            <a:ext cx="327672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tódgondozási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057400"/>
            <a:ext cx="1752480" cy="5335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2057400"/>
            <a:ext cx="243828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ártalálási esé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3581280"/>
            <a:ext cx="3276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tódgondozási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24852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árzási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4876920"/>
            <a:ext cx="24386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ártalálási esé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24852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árzási stratég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3581280"/>
            <a:ext cx="24382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tódgo. stratég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352680"/>
            <a:ext cx="220968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rrás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losz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edá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066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6553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6629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9568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57200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Utódgondozás és párzási rendszer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i nevelj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égi szemlélet: A felek érdeke a közös szaporodási siker maximalizálása, harmónia és kooperáció van a felek köz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Később: A felek egyéni, és nem a közös fitness maximalizásra törekedn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Korábban abnormálisnak hitt viselkedés megmagyarázható, adaptív lehet (pl. fiókaelhagyá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l. függőcinege szaporodási rendsz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99360" y="0"/>
            <a:ext cx="18446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356000" y="692280"/>
            <a:ext cx="4300560" cy="525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2880" y="0"/>
            <a:ext cx="408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dkét szülő dezertál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üggőcin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észekalj elpuszt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í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ös érdekekkel nem leh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yaráz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edi érdek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5580000"/>
            <a:ext cx="34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ONFLIKTUS ! !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osztzigoikus szexuális (szülő-szülő) konflik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z utódnevelés során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(is)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felek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érdekei eltérőek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hím optimális stratégiája: zéró befektetés, sok nõsténnyel való párzá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nõstény stratégiája: párzani, hímet nevelésre bírni, lelépni és új forrásokat keresni az újabb tojások produkálásáho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okszor elég egy szülõ a sikeres felneveléséhez ha szülõi tevékenység csak õrzésre és tisztogatásra korlátozódik, vagy a táplálék abundanciája nag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Máskor két szülő munkája kell az utódtúléléshez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(lásd pársegítő monogámi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hol van utódgondozás, ott legtöbb esetben fõleg a nõstények gondoznak, többet vállalva, mint az 50%-os “fair arány.” Az ezt magyarázó hipotézisek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1. Múltbéli befektetés számí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nõstény a gamétába eleve többet fektet be, és az utódok esetleges pusztulásával többet veszíthet, mint a hím, aki egy adott utódnyi gamétába minimálist alloká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 Az apaság alacsony megbízhatósága számí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nõ  50%-ban biztos továbbadja a géneket.  Apa személye viszont sok esetben nem biztos, fõleg a belsõ megtermékenyítésû vagy szabadon "tejelõ" fajoknál. Idegen gének sikerét biztosítani igen költséges szórakozás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9T21:51:57Z</dcterms:created>
  <dc:creator>Viselkedésökológiai Kutatócsoport</dc:creator>
  <dc:description/>
  <dc:language>en-US</dc:language>
  <cp:lastModifiedBy>Szabó Krisztián</cp:lastModifiedBy>
  <dcterms:modified xsi:type="dcterms:W3CDTF">2008-04-28T22:21:15Z</dcterms:modified>
  <cp:revision>63</cp:revision>
  <dc:subject/>
  <dc:title>PowerPoint Presentation</dc:title>
</cp:coreProperties>
</file>