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8.png" ContentType="image/png"/>
  <Override PartName="/ppt/media/image39.jpeg" ContentType="image/jpeg"/>
  <Override PartName="/ppt/media/image38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4DB5-E944-41F2-805E-5DAFA94858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265-C662-4871-9095-2B53ED92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974-69C7-44C9-B2EF-61554623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227-EEC7-4127-BFA6-55752202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891-3D13-4574-9647-F4B303E5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69F-9EC3-4403-BB4E-3C1851AD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CA8-B858-45DB-9C0C-D2251B4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27A-888B-492A-9387-30F633A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7C0-FB60-4433-A78C-7E461D1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D13-2264-4E94-BCED-F704C11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329-B979-4238-9F70-DB0B632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2D7-C1B4-4A5B-8D70-F5AA081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C6A-7FE9-4639-BCC0-4C8CC48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D5B3-25E9-4FF4-9E69-5E14A521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13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439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r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ác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s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chanizmuso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65000"/>
            <a:ext cx="9144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darak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(ZW rendszer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õstények a hete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rogam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ikus nem (ZW), hímek Z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em tudni, hogy W kromoszóma a lényeges, vagy a Z kromoszómák szá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euploid mutánsok nem ismertek, azok alapján meg lehetne monda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2A:ZZW nádirigó nőstényt találtak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tt is van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S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régió a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kromoszómán, szintén kevés g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W nem homológ emlős Y-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dár és emlõs (és egyéb) ivari kromoszómá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em homológok, más-más autosz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ómapárokbó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üggetlenül fejlõdtek 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pl. madár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Z az emlõs 9. autoszóma nagy részével homológ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nem X-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838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vari kromoszómák kialakul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Autoszóma-pá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2. Ivar-determinációs gén megjelenik a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utoszómá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proto-ivarkromoszóm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zex-determináns szerepû gé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elhalmozó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kombináció szupresszálás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élszerű klonálisan örökíteni az ID gének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X tartja az esszenciális géneket, Y vesz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ukturális változá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PAR csö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 Nem ivari gének degradációj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módosulása vagy eltűnése, más autoszómális gének átvéte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yi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varnak elõnyö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mási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k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átrányo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é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R-hez kötve jobban elterjed, mert mindig csak a kedvezményezettek örökítik egymásn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29240" y="0"/>
            <a:ext cx="36147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2. Dózis-függő transzkripciós faktoro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ivardetermináns géneket hordozó speciális kromoszómák száma dö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ivar kialakulásáró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Drosophil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tt X kromoszóma és az autoszómák aránya szám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Y kromoszóma van, de nincs ivardetermináns szerep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XX: nõstény, XY: hí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Aneuploid XXY mutáns is nõstény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íg az Xo mutáns steril hím, nem úgy mint emlősökb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:A arány hat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xl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én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őstény-sepcifikus tra mRNS spli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ds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őstény fenotíp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3564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Caenorhabditis elegans (Nematod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ndrodiöcikus faj (hímek és hermafroditá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pesek önmegtermékenyítés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 kromoszóma és autoszómák aránya számít, nincs Y kromoszó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X genotípus hermafrodita, Xo genotípus hí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:A arány befolyásolása: hedgehog-like intracellular path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xol-1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én esszenciál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3208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Környezeti ivardetermináció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 rendszer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zigóta fejlődésekor ható h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õmérséklet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befolyásolja az ivar nemé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nvironmental (Temperature-dependent) Sex Determination, ESD, TS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övényekbe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kereke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hengere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é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yûrûsférgekben,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erincesekben is előfordu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örnyezet hatása taxononként változó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echanizmus nem ism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932360" y="3649680"/>
            <a:ext cx="38876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ámos hipotézis szolgál magyarázattal, a legelfogadottabb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jlõdési hõmérséklet befolyásolja a kikeléskori fenotípust, és ez különbözõen befolyásolja a két ivar fitnessé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pl. a fejlõdési hõmérséklet kedvez a növekedésnek, akkor ezen a hõmérsékleten érdemesebb olyan nemû utódnak kialakulnia, mely jobban tud profitálni a megnövekedett méretbõl vagy gyorsabb növekedésbõ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ligátoroknál melegebb hõmérsékleten több hím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gy méret a hímnek kedvez (territoriál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alászhalaknál hidegebb vízben több nõstény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gy méret a nõsténynek kedvez (nagyobb a fekunditá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környezeti hatások sok esetben finomabban és plasztikusabban szabályozhatják az ivararány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melegvérûek a TSD lehetõségét elveszítve állhattak át az általános genetikai ivarmeghatározás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Néhány példa az elsődleges mechanizmusok változatosságá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üllõkben sokféle mechanizmu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okodiloknál ESD, teknõsöknél ES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X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ZW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ígyóknál ZW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yíkoknál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S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Y és ZW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étéltûeknél ES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Y és Z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laknál is sokféle ES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Y és Z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epkéknél Z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ogaraknál is változatos (XY, XXY, Xo, stb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Haplodiploi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rrhenotok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megtermékenyített petékbõl diploid nõstények (és dolgozók), a haploidokból hímek kelnek ki.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Hymenopte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eliotok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iploid hímek, haploid nőstény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Pajzstetve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ivararány primer befolyásolása itt lehetséges (utód nemének eldöntése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ás ID rendszer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állatokná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em találtak bizonyítékot primer szabályozás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ferenciális abortálással, adszorpcióval, születés utáni favorizáláss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2484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Növény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irágos növények 72 %-a hermafrodita (egy virágban két funkció)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7 %- a monoöcikus (egy egyeden hím és női virág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7% átmene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4 % dioöcikus (kétlak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tlakiaknál változatos a rendszer, akár csoportokon belül is nagy varia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an XY rendszer is, mint emlősöknél, de van sok más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Y bibefejlődést gátol és porzófejlődést indí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1909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190960" cy="181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867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ilene gen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Y rends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orfológiailag különböző X és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AR rekombinálódik, NR n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rekombináció szupressziója itt hasonlóan zajlott, mint emlősök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közös, de már nem rekombinálódó gének divergenciája nő a PAR-tól távolod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 és Y elkülönülés kb. 10M é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z ivari kétalakúság változatosság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egyik véglet: hermafrodita egyed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kro- és makrogaméta funkció egy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ásik véglet: kétnemű egyed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diöcikus, gonochoristic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parált nem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öztük sokféle átmeneti a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ndrodiöcikus, gynodiöcikus faj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agy variancia fenotipikusan és a genetikai mechanizmusokb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z ID-utak evolúciós dinamiká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SD gének gyorsan evolválódnak, nem feltétlenül vesznek részt a rokon fajoknál SD-b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Közeli rokonok alapvető SD mechanizmusokban különbözhetne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Akár fajon belül is lehet varianci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(Xiphophorus maculatus XY és ZW i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65560" y="3564000"/>
            <a:ext cx="4978440" cy="3294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mlős SRY történ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ipikus Y gén, autoszómáról jött, gyorsan fejlődik, gyorsan eltűnh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ősi emlős TDF nem az S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RY őse a SOX3 gén lehetett, ami főleg idegrendszer-fejlődésben szerepel, ezután módosult ivardetermináns SRY-v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onotremata: nincs S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supialia, Placentalia: van S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Mu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enusban SRY Sry-v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Ellobiu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enusban Sry is eltűnh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. fuscocapillus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an Y, van S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. lutescen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a hím és nõ is Xo, nincs S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. tancrei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hím és nõ is XX, nincs S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735200"/>
            <a:ext cx="8785440" cy="270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80" y="23760"/>
            <a:ext cx="263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mberi Y evolúció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371840" cy="3724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0" y="23760"/>
            <a:ext cx="44607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ilene gen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nemzetségen belül változatossá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Y rendszer (diöcikus faj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. latifolia, S. dio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ermafrodita faj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. vulgaris S. diclin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516720" y="3213000"/>
            <a:ext cx="2333520" cy="2905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43680" y="115920"/>
            <a:ext cx="2992320" cy="174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3760"/>
            <a:ext cx="8820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Caenorhabditis féreg (Nemato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androdiöcikus rendszer egymástól függetlenü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lakult ki a C. elegans és C. briggsae eseté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filogenetikai rokonok nem önmegtermékenyítők, diöcikusa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onvergens ID evolúció, alkalmazkodva a párzási rendszerh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3716280"/>
            <a:ext cx="5808600" cy="2793960"/>
            <a:chOff x="0" y="3716280"/>
            <a:chExt cx="5808600" cy="279396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179280" y="5157720"/>
              <a:ext cx="56293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3716280"/>
              <a:ext cx="5596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200" spc="-1" strike="noStrike">
                  <a:solidFill>
                    <a:srgbClr val="000000"/>
                  </a:solidFill>
                  <a:latin typeface="Times New Roman"/>
                </a:rPr>
                <a:t>xol-1</a:t>
              </a:r>
              <a:r>
                <a:rPr b="0" lang="hu-HU" sz="2200" spc="-1" strike="noStrike">
                  <a:solidFill>
                    <a:srgbClr val="000000"/>
                  </a:solidFill>
                  <a:latin typeface="Times New Roman"/>
                </a:rPr>
                <a:t> gén gyors szekvencia-divergenciáj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5040" indent="-3650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5040" indent="-3650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200" spc="-1" strike="noStrike">
                  <a:solidFill>
                    <a:srgbClr val="000000"/>
                  </a:solidFill>
                  <a:latin typeface="Times New Roman"/>
                </a:rPr>
                <a:t>C. elegans és C.briggsae csak 22% identikus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5040" indent="-365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u-H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2200" spc="-1" strike="noStrike">
                  <a:solidFill>
                    <a:srgbClr val="000000"/>
                  </a:solidFill>
                  <a:latin typeface="Times New Roman"/>
                </a:rPr>
                <a:t>a környező gének sokkal inkáb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5040" indent="-365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48360" y="4508640"/>
            <a:ext cx="3600360" cy="2103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4859280" cy="435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376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Drosophila és rokon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rosophila: X:A arány az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xl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génen keresztül vesz részt a tra mRNS splicing-ban (a nőstény fenotípus kialakításához ke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eratitis genus: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lx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nem ivardetermináns gén, tra-reguláció autonó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Nukleáris ivararány-torzító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ymenopterák arrhenotokiáját számos más mechanizmus bonyolíthatj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omplementer ivar-determináció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Complementary Sex Determination, CSD) </a:t>
            </a:r>
            <a:br>
              <a:rPr sz="20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etlen egylókuszos géntõl függ az utód n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ploid hemizigóták (Aj vagy Ai) hím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iploid heterozigóták (AjAi) nõst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iploid homozigóták (AjAj vagy AiAi) steril hím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k hártyásszárnyúnál, először a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Bracon hebetorba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írták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1668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ilyen diploid hímek diploid spermát termelnek, sterile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opulációnak nagy genetikai teher, mértéke nõ a beltenyésztéssel, hiszen ekkor a homozigóta egyedek aránya is növekszi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SD nagymértékben befolyásolja a szociális viselkedést, a tényleges és az effektív ivararányt, valamint a párzási rendszerek kialakulásá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m szociális hártyásszárnyúaknál a CSD nagy hatással lehet a populáció növekedésre és az ivararányra. A sok steril hím miatt az effektív ivararány erõsen a nõstények felé mutat, a szaporodóképes egyedek nagy része nõivarú. Mivel a diploid hímekkel párosodó nõstények csak haploid hím utódot képesek létrehozni, szelekciós nyomás van a nõstények felé, hogy nõi ivar felé tolják el a születendõ utódok nemét, ezzel kompenzálva a sok hím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társas fajoknál a dolgozók miatt összetettebbek a CSD hatásai. A dolgozók genetikailag nõstények. A diploid hímek produkciója csökkenti a dolgozók számát is, nagy lassulás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okozva a pop.növekedés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ociális viselkedési adaptáció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Apis mellifer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dolgozók diploid lárvákat felismerik és megesz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Melipon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méhek és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olenops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hangyák dolgozói diploid hímmel párzott királynõjüket megölik, testvérei közül emelnek egy új királynõ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Formic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fajoknál a dolgozók eliminálják a diploid híme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atékony védekezés a beltenyésztés elkerülése diszperzió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olenopsis invicta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ûzhangyánál Argentínában 86, USA populációkban 10-13 CSD allé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1996920" cy="226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304020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553000" y="4581360"/>
            <a:ext cx="3411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Citoplazmatikus ivararány-torzító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Önző genetikai elem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Uniparentálisan örökítõdő citoplazmatikus faktorok (organellumok, citoplazmatikus paraziták) önző genetikai elemekként viselkedn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ek érdeke a 100% saját ivar (másik ivar zsákutca, nem képes õket örökíteni) létrehozás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erjedésüket számos mechanizmussal biztosíthatjá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vari kromoszóma meiotikus sodródás előidéz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minizáció (zigóta fejlõdését nõi irányba toljá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ímsterilitás vagy hímölés, (hím zigótát elpusztítják, vagy sterilizálják) partenogenetizálá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eltérõ érdekek az ivararány-torzítókat szupresszáló genetikai elemek evolúciójához vezethetn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kétnemûség nagyon õsi és elterjedt az élõvilágb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immetrikus szexuális mechanizmusok 1Mrd é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Ősi eukarióta egysejtűek már mindent tudt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De: Az ivardeterminációs rendszerekben nagy változatossá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Wolbachia baktérium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tracelluláris, anyai ágon örökítődő szimbionták/parazitá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ámos rovar, rák, fonalféreg a gazd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tásuk a gazdára sokféle leh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Hímölés (fertőzött nőstények fiait megö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Feminizálás (hordozó hímeket nősténnyé tesz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Hímsterilizálás (hordozó nőstények fiait sterilizál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Parthenogenetizálás (haploid hímet diploid, szűznemző nőstényé tes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Wolbachia baktérium hatása az Armadillidium vulgare ivardetermináció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szeré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entes pouláció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ím ZZ, nőstény Z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rtőzőtt populáció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ZZ genotípusú hímekbõl nõstényeket csinál, melyek örökítik a baktériumo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ím ZZ, nőstény ZZ+bakt   W kromoszóma kihalásra van ítél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vel szinte minden utód nõstény lesz (ZZ genotípus, de baktérium nõsténnyé teszi), a hímek nagyon ritkák, és nagy a fitness-elõnyü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lekciós nyomás van a hímet csinálni tudó nõstényekre (mentes ZW, mentes ZZ hím csak ilyen nősténnyel tud mentes ZZ fiat csinál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 a a gátló autoszómális szupresszor gének megjelenésével lehetséges (mentes egyedeket eredményez).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Ősi IDR: genetikai, nőstény heterogamécia (W kromoszóma fakt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Új IDR: Wolbachia (nőstény faktor) és szupresszor gének (hím fak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29368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D rendszerek diverzitás egyik feltételezett oka: Genetikai konfliktu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lasszikus SD szemlélet a zigótákban ható mechanizmusok vizsgál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3 szinten hat szelekció a rendszer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i SR gének (szülőkben expresszálódnak, ivar-allokációt befolyásoljá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i SR hatások (szülőkben expresszálódó gének, zigótában hatn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zigotikus SD gének (zigótában expresszálódn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ndegyik jó arénája a konfliktusokn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4797360"/>
            <a:ext cx="6985080" cy="1792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58920" y="152280"/>
            <a:ext cx="7056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Humán ivarfejlõd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64000" y="260280"/>
            <a:ext cx="4730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Kromoszómális ne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rtilizációkor már adott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zigóta nemi kromoszómáit jelö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Gonadális ne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a magzati fejlõdés 6. hététõl)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lsõdleges ivarszervek n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énhatásra zajlik a folyam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égeredmény a here vagy a petefész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gonádtelepek az õsvese alat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elyezkednek el, az ötödik hétig indifferens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kkor az õsivarsejtek bevándorolnak a telepr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s génhatásra a telep differenciálódi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244680" cy="2222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2000" y="3141720"/>
            <a:ext cx="28224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ható gének egyszerûsítv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Y kromoszóma Yp régióján 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DF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Testis determinating factor), ami 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RY g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TIF repressz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 kromoszómán: 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IF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Testis inhibitor) gé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O g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ováriumot csinál kortikalizációval a telepbõ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 g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herét csinál medullarizációval a telepbõl)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todik héten indulnak Yp gének, TIF gátolva, T gén indulni tud, medullarizáció, és he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nincs Yp régió (vagy hibás a gén), akkor az O gén indul, kortikalizáció, ovárium, here nem alakul k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 Genitális ne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12. héttõl)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i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ari traktusok n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kialakult here által termelt csecsemõk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hatásá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enitáliák fejlõdése (is) alapvetõen min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ozigóta nem irányáb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T hatására Müller-csõ elsorvad, Wolf-csõ differenciálódi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llékhere, ondóvezetõ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 nincs here, nincs T, a Müller-csõ fejlõdik tovább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tevezetõ, méh, vagin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lica genitalisból szeméremajkak, clitoris vagy pénisz, herezacsk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4. Pszichoszomatikus (társadalmi) ne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Ez az, aminek az egyén tartja magát (neveltetés, kulturális hatások, stb. erõsen befolyásolhatjá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588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efektusok a humán nemi fejlõdés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09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neuploid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kromoszomális bajok)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set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urner-szindróma (X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linefelter-szindróma (XX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"Szupernõ" (XXX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uploidia eset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Sex revers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X (rekombináció van, Yp szakasz X-re kerül). Here, hím genitáliák. Férfi fenotípus, de két X elnyomja a spermiogenezi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Y:- Sex reversal (Yp szakasz hiányzik) Nõ fenotípu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92920" y="836640"/>
            <a:ext cx="2251080" cy="32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33688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elsődleges ID mechanizmusokat feloszthatjuk így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megtermékenyíté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pillanatába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eldõl az utód n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Genetikai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Genetic Sex Determination, G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góta fejlõdése alatt ható környezeti faktorok befolyásolják az iv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Környezeti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nvironmental Sex Determination,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D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opulációs tényezők (ivararány, pop.denzitás) befolyásolják a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edek ivarát (nemváltás: halaknál, fonálférgekné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esztoszteron hatá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ői magzatra: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gyógyszer, mellékvesei enzimdefektu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várium kialakul, de az androgén hatások miatt hím irányb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hormonhatás idõpontjának függvényében hím genitáliák lesznek (herezacskó vulva helyett, pénisz csikló helyett, stb.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inél korábban éri a tesztoszteron-hatás, annál jobban 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zul az eredeti nõi fejlõdési ú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Álhermafroditizmus: (tesztikuláris feminizáció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secsemõkori tesztoszteron hiánya miat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hím embriób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re van, de nem termel tesztoszteront, a genitáliák nõi irányba (Müller-csõ), nõként él nemi életet, de petefészek hiányában steri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alódi hermafroditizmus: Here és ovarium is, vagy ún. ovotestis van, általában nem mûködnek, egymást elnyomják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63640" y="4365360"/>
            <a:ext cx="208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Zigotikus ivardeterminációs mechanizmus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lsődleges nukleáris mechanizmu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varkromoszóma-specifikus transzkripciós faktor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YX/ZW rendszerek, az ivari kromoszómától függ az utód n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ózis-dependens transzkripciós faktor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A:X aránytól függ az utód n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őmérséklet-érzékeny mechanizmus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TSD, a környezei hatástól függ az utód n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ukleáris ivararány-torzító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 kromoszómá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omplementer ID (CSD, Hymenopte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Citoplazmatikus ivararány-torzító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itoplazmatikus organellum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itoplazmatikus paraziták (Wolbach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1. Ivarkromoszóma-specifikus transzkripciós faktor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ivar-determináns gének speciális kromoszómán csoportosuln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mlõsök (XY rendsz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ím XY ( heterogametikus nem), nõstény X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neuploid mutánsok (XXY=hím, Xo=nõ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Y kromoszóma megléte fontos, nem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romoszómák ará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21942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4680" y="0"/>
            <a:ext cx="41893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3745080" cy="370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5651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X kromoszó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65 Mb, kb 1500 gén, háztartási és ID gén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ndkét ivarban kifejeződ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492360" y="5157720"/>
            <a:ext cx="13226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88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78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Y kromoszó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60 Mb, rövid, kb. 50 gé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le ivardeterminációs é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ertilitási fun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Rövid szakaszon rekombinálód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-el (PS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nemrekombinálódó régión (N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R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sex determining regionY) gé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RY=T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ím embrióban here kialakulásá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dukál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R génjei is rekombinálódhatnak ritkán (Sex-reversal mutánso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Y genotípusú egérben ha SRY szakasz hiányzik: nőstén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XX-es egérbe ültetve az SRY szakaszt: steril hí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RY génben funkcióvesztéses mutáció: nőst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éb gének Y-on fõleg a hímek számára elõnyösek, szerepük a növekedésben, fogfejlõdésben és spermiogenezisben van (fontosak a kompetíciós képességben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81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1:53:52Z</dcterms:created>
  <dc:creator>m</dc:creator>
  <dc:description/>
  <dc:language>en-US</dc:language>
  <cp:lastModifiedBy>Szabó Krisztián</cp:lastModifiedBy>
  <dcterms:modified xsi:type="dcterms:W3CDTF">2008-04-28T22:29:55Z</dcterms:modified>
  <cp:revision>73</cp:revision>
  <dc:subject/>
  <dc:title>Ivari determináció </dc:title>
</cp:coreProperties>
</file>