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DBF3-429B-468C-AFFC-15A48E7B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067-6674-4183-80D4-951BCC04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6FE3-62DC-484D-B7D7-C55C586E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EECA-3DC8-4518-80C0-608C5187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CE8D-0F6D-4564-8DEB-1223D089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D5AF-5D10-4D84-BDE5-E03EF8A8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353C-D012-47BB-976C-E56A462E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A496-7D0D-465E-9442-2581EB7C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51F6-C340-4B6C-8B6F-E0660568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90C3-C329-4D35-B7D5-F9DD70FF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5BD1-81BB-4255-9A05-BF960F53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11CF-3A83-4B81-9C1D-BD5AD3F1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5055-FD13-4F5C-9773-CC11D5735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Ruff1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lternatív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árzási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enotíp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us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7172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Gyakori alternatív  him taktika a nõstényimitáció is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ormos légykapó hímeknél lehet nõstény-szerû tollazat és viselkedés. Territóriumos hímekhez osonnak így be. </a:t>
            </a:r>
            <a:br>
              <a:rPr sz="2200"/>
            </a:b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050920" y="1773360"/>
            <a:ext cx="50468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Korábban úgy gondolták, hogy a kisebb fitnessû taktika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 a „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sok rossz közül a kisebb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választása.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De az alternatívnak tekintett taktika lehet kedvezõbb is.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ho pisztráng:"Jack" és "Hooknose" életmenet. Adott körülmények között a korán érõ Jack egyedek lehetnek a legjobb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zaporodási sikerűe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Uta stansburiana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yík: Három színezet és stratégia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„kő-papír-olló módon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arancstorkú, agresszív hím nagy territóriummal. A sötétkék torkúak kis territóriummal. Sárgacsíkos, nõstényutánzó egyedek besurranók. Fenotípus-gyakoriság ciklikus. Fenotípusok fitnesse függ a másik két fenotípus gyakoriságától, kõ-papír-olló játékhoz hasonlóa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90720" y="2743200"/>
            <a:ext cx="7315200" cy="3714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219320" y="0"/>
            <a:ext cx="6807240" cy="3263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676520" y="0"/>
            <a:ext cx="53974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Nemváltá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z alternatív stratégiák legextrémebb esete, ha a kétféle fenotípus, ami között dönthet az állat, az az iva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Állandó növekedésû, szekvencionális hermafrodita fajoknál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ha a két nem között eltérés van a fitnessben életkor vagy testméret függvényébe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kkor éri meg váltani, ha a másik nem szaporodási potenciálja egy idõ után meghaladja az eredeti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Ha hímnek éri meg elõször lenni, akkor protandria (hímbõl nõre vált), ha nõnek, akkor protogynia van.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mphiprion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orallszirti halnál protandria, nincs versengés hímek között (egy csoportban egy hím és néhány nõstény van), a nagy méret  nõsténynek jobb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özel roko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ascyllus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ajban protogynia, hímek versengenek a nõstényekért, nagy hímméret elõnyös.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7086600" cy="5081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371600" y="0"/>
            <a:ext cx="6934320" cy="5202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143000" y="0"/>
            <a:ext cx="731520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4360" y="458136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vé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820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Nem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en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belül is lehetnek jelentõs különbsége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orfológiában, fiziológiailag,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viselkedésben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életmenetbe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z ilyen polimorfizmus létrejötte a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sokszor a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szexuális szelekció következménye,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 versengõ nemnél jelentkezik.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atematikai háttér: játékelmélet (Neumann, Morgenstern, Maynard Smith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atematikai és a biológiai alkalmazásokban viszont számos különbség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atematikailag "tiszta" és "kevert" stratégiák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4 alapjáté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biológiai értelmezésekben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a lényeg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: a fitness nem csak az egyedi jellegektől, hanem a fajtársak döntéseitől is füg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Néhány definíció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Stratégia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/t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ktika: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Genetikailag kódolt program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. A program kódolhat csak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gyféle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, változtathatlan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fenotípust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, vag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lehetõvé te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eti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alternatív fenotípusok alkalmazásá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Néhány szerző különbséget tesz 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ratégia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és 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ktika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között, a taktikákat az adott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tratégiából következõ lehetséges fenotípus(ok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)nak tekintv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Frekvenciafüggõ szelekció: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dott fenotípus fitnesse a gyakoriságától függ. Minél ritkább, annál elõnyösebb, de elterjedésével az elõny egyre csökken (és egyre inkább megéri más fenotípusba tartozni).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fenotípusok egy meghatározott arányánál a fenotípusok átlagfitnesse egyenlõ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Státuszfüggõ szelekció: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enotípusok relatív fitnesse az egyedek státuszának függvényében változik. Státuszt befolyásolhatja a környezet, genetika vagy fejlõdési/fejlettségi állapot.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ES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az a stratégia, amelyet, ha az elterjedt a populációban, egy alternatív stratégia nem tud kiszorítani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. Lehet tiszta és kevert ESS.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fentiekbõl következõen a biológiai rendszerekben az alternatív fenotípusok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ét nag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csoportját különböztetjük meg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(vannak más felosztások i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Fixált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stratégiák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 (az egyed nem tud dönteni stratégiák között)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. Kondicionális stratégiák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(döntésen alapu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Fixál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 stratégiák</a:t>
            </a: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z egyed nem tud dönteni az alternatív fenotípusok között, mivel az genetikailag meghatározott, megváltoztathatatlan.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Minden egyes fenotípus külön genetikai programmal bí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Frekvenciafüggõ szelekciót feltételez, a stratégiáknak egyenlõ a fitnes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 populáción belül az egyes fenotípusok aránya csak generációról-generációra változi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Relatíve kevés példát találtak ezidái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aracerceis sculpt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engeri izopoda: Szivacsokban párzanak. Autoszómális gén három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éljának alapján. Nõstényvédõ, nõstényutá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ó és besurranó fenotípuso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jzsos cankóknál 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rritoriális sötét/ szatellit fehér hímek. Két allél dönti e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iphophorus nigrensi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kardfarkú halnál a testméretet és az ezzel járó stratégiát egy nemi kromoszómán lévó lókusz alléljai határozza meg.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gy hím udvarol, a kicsik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sonnak, a közepesek mindkettõt csináljá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ügedarazsak: Kisebb, kis állkapcsú és szárnyas hím elhagyja a fügetermést és má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ügékben kikelõ nõstényeket keres. Röpképtelen, nagy rágójú hím, termést nem hagyja el, ott harcol a hasonló hímek ellen a kikelõ nõstényeké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666880" y="1066680"/>
            <a:ext cx="3581640" cy="3365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258920" y="527040"/>
            <a:ext cx="7885080" cy="3303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0" y="380988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5079960" y="380988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2627280" y="1052640"/>
            <a:ext cx="434340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" dur="1" fill="hold"/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. Kondicionális stratégiák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6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 s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tratégia megengedi, hogy hordozója egy "döntés" alapján válassza meg, milyen taktikát választ a leheségesek közü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 döntés függ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het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a környezeti körülményektõl és az egyed státuszától. Emiatt státuszfüggõ (és frekvenciafüggõ) szelekció érvényesü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z egyes fenotípusok fitnesse csak a "váltópont"-ban egyenlõ, a döntés révén az adott fenotípusú egyén más, jobb rátermettséget biztosító taktikát választha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 taktikák genetikailag monomorfak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hol vannak alternatív fenotípusok, ott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legtöbbször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ez érvényesül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, erre találták a legtöbb példá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Gyakori a testnagyság függvényében jelentkezõ küzdõ/besurranó (sneaker) hím taktik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Onthophagu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rrszarvú bogár: nagy lárvákból fegyveres, nagy hímek, kis lárvákból fegyvertelen, kis hímek. Döntés a lárvanagyság, de nem genetikai program határozza me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catophaga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rágyalégy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nagy hímek egy-egy tehénlepény-territóriumot védenek, ahová a nõstények párzani és petét rakni érkeznek. A kis legyek a lepényekhez közeli fûben keresnek pá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anorp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korpiólégy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árom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atégia: A legnagyobbak egy elejtett rovart védenek, amelyet a nõsténynek ajándékozva azzal pározhatnak. Mások nyálból készített ajándék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t adna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a harmadik félék pedig repkedõ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õstényeket próbálnak megerõszakolni.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mpidid legyek becsomagolt szúnyog-ajándékot adnak, mások csak üres csomagolóanyag-ballo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3343320" cy="4800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286000" y="0"/>
            <a:ext cx="4419720" cy="3562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657600" y="0"/>
            <a:ext cx="5486400" cy="4251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440160" cy="5486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1055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z átváltás pontja sok tényezõtõl függ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Vetélytársakhoz és a környezeti viszonyokhoz is igazítható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pillanatnyi taktik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Guppiknál a besurranó alak gyakoribb a ragadozóknak kitett helyen, mert valószínûleg kevésbé feltûnõ, mint az udvarlásos taktik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Pararge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lepke napos idõben a napos tisztáson várja, borús idõben aktívan repkedve keresi a párjá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Bufo calamita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és</a:t>
            </a: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 Hyla cynerea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békák: caller és szatellit hímek.Taktikát a szomszédhoz igazítják. </a:t>
            </a:r>
            <a:br>
              <a:rPr sz="2200"/>
            </a:b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828800" y="690480"/>
            <a:ext cx="5486400" cy="5475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828800" y="304920"/>
            <a:ext cx="54561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9" dur="1" fill="hold"/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14:39:27Z</dcterms:created>
  <dc:creator>VÖCS</dc:creator>
  <dc:description/>
  <dc:language>en-US</dc:language>
  <cp:lastModifiedBy>Szabó Krisztián</cp:lastModifiedBy>
  <dcterms:modified xsi:type="dcterms:W3CDTF">2008-04-27T19:59:46Z</dcterms:modified>
  <cp:revision>110</cp:revision>
  <dc:subject/>
  <dc:title>Alternatív párzási fenotípusok</dc:title>
</cp:coreProperties>
</file>