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572-1192-4C3B-9FC1-F3C142EB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B52-247E-4760-ADCC-FCF86113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A72-AE5F-4BCD-AE84-068A9695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328-55D0-4A92-8AC1-E300C6C4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3CF-F71B-4FEE-BEA3-87908E44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AF9-D7EF-499D-9129-7326DD8C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E2B-D510-46E3-B41D-FEE547E0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E4E-D743-4090-9CC4-52071119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227-AAEE-44D6-9780-8341A4EB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AF8-7FC3-4691-9AA2-C8B2F3F5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F48-1DBF-4DF7-ABCC-C7E78FD1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F95-2AE7-465C-8FB8-F03C7F6D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D531-A801-4B34-8EFF-CDF70F42F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447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Fontos lépések a szexualitás evolúciójá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crossing over has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5320" indent="-3553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crossing over és a rekombináció valószínûleg az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gylépéses meiózis és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zingámia kifejlõdése után jelent meg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ndomitózisnál fölöslege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3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320" indent="-3553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gyedi szintû elõnyök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opulációs szinten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ár vo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3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zinergeta káros mutációk szelektív nyomással vannak a rekombináció kialakulására, mely lehetõvé tesz 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zétszeparálásukat (külön nem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lyan károsak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3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. Ha irányító szelekció hat az adott többlókuszos tulajdonságra, akkor a szelekció a rekombinációt segítõ gén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ek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ek i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edvez 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. parazita nyomásra a jelleg variábilisabb lesz, ezáltal elõsegítve a menekülést a parazita elõ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3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320" indent="-35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gyik vagy mindké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elekciós erő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ezethetett a crossing over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320" indent="-35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ontos lépés,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 kialakulásához minden szükséges tényezõ (meiózis, enzimek) adva volt már korábba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320" indent="-35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ickey-Rose: A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kombináció oka lehet a genetikai konfliktusok okozta genom-elimináció elõl való menekülés i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kétlépéses meiózis elõny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ámos protista fajnál találtak egylépéses meiózist (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Archezoa, Dinozoa, Sporozoa, Parabasali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). Itt nincs premeiotikus duplikáció (és nem tudni, mennyi a rekombináció).</a:t>
            </a:r>
            <a:r>
              <a:rPr b="0" lang="hu-HU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72896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7289640" cy="207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143000" y="3352680"/>
            <a:ext cx="7289640" cy="2713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61722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 e r t i l i z á c i ó                               g a me t o g e n e z i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7339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817236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premeiotikus megkettõzõdés (metakarióta újítás), lehetõvé teszi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1. A kétszálú DNS premeiotikus duplikációnál a legutóbbi mitózis óta keletkezett DNS-hibák javítását (sima mitóziskor is történik javítás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javíthatatlan egyszálú hibát tartalmazó DNS javítható kétszálúvá alaku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2. A testvérgyilkos allélek leszerelését (olyan allél, ami a meióziskor keletkezett testvérgamétát elpusztítja). Ez esetben a kétszeri osztódás miatt 50%-ban magát eliminálja.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gaméták differenciálódása (Anizogá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Hoekstra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('87) modellje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ezdetben promiszkuitás van, AB típusokkal. Mindenki képes mindenkivel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uzionál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ieséses mutációkkal Ab és aB típusok is megjelenne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-343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B típus elõnyben van: kétszeres esélye van a szaporodásra (Ab-vel és aB-vel is képes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-343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zelekciós erõ hat A és B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apcsoltságra, mivel ab genotípus senkivel sem képes szaporod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200400"/>
            <a:ext cx="137160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3200400"/>
            <a:ext cx="137160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200400"/>
            <a:ext cx="137160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3200400"/>
            <a:ext cx="137160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4290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34290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208960" y="39625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3429000"/>
            <a:ext cx="381240" cy="380880"/>
          </a:xfrm>
          <a:custGeom>
            <a:avLst/>
            <a:gdLst>
              <a:gd name="textAreaLeft" fmla="*/ 0 w 381240"/>
              <a:gd name="textAreaRight" fmla="*/ 381600 w 3812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600200" y="3962520"/>
            <a:ext cx="380880" cy="380880"/>
          </a:xfrm>
          <a:custGeom>
            <a:avLst/>
            <a:gdLst>
              <a:gd name="textAreaLeft" fmla="*/ 360 w 380880"/>
              <a:gd name="textAreaRight" fmla="*/ 381600 w 380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3429000"/>
            <a:ext cx="380880" cy="380880"/>
          </a:xfrm>
          <a:custGeom>
            <a:avLst/>
            <a:gdLst>
              <a:gd name="textAreaLeft" fmla="*/ 0 w 380880"/>
              <a:gd name="textAreaRight" fmla="*/ 381240 w 380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 az eltérõ típussal való párosodás valami egyéb elõnnyel jár, akkor még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lterjedhetnek a Ab és aB típusok, a kezdeti AB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ípu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iszorítható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ifferenciálódás fixálódha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lyen elõny lehet a 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heterozigócia előnye 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ibrid vigor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vagy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genetikai konfliktusok csökkent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volúciós konfliktus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56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niparentális öröklõdé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8000" y="692280"/>
            <a:ext cx="4691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érõ szülõbõl származó citoplazmatikus organellumok a zigótában külön génállománnyal rendelkeznek, külön szelekció alatt állhatna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térõek lehetnek az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érdek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enetik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fliktusb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rülhetn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gy mután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ill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él, amely a másik szülõbõl érkezõ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t-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pusztítja,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õnyben van 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vábbörökítésben. Ha két ilyen mt egy utódba kerül, az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áros hatással járhat az utód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miatt konfliktus alakul ki az önző mt és nukleáris gének közöt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elekciós nyomás van a konfliktus leszerelésére (nukleáris génekk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 efféle konflikusokat semlegesíteni képes élõlények mentesülne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zen káros hatások alól,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zelekciós elõnyt élvezhetn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03640" y="340200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340200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03640" y="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419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citoplazmatikus konfliktus leszerelésének két alapvetõ módja van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z organellumok fúzió utáni gyors szegregációja a zigótáb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. A citoplazmatikus organellumok uniparentális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egyik szülő általi)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öröklõd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z uniparentalitás nagyon változatos mechanizmusokkal valósulhat me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1. Ivarsejképzõdésk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meiotikus osztódás során az ivarsejtekbe nem (vagy csak egyféle) organellum kerül.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Pl.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Cilindrocysti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zöldalgá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egyik gaméta (spermium) citoplazmájának mérete (és így a benne lévõ organellumDNS mennyisége) csökken, méretbeli anizogámia v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szinte az összes élõlény ilye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ivarsejtben az organellumok vagy organellumgének degradálódna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l.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Temnogyr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zöldalgá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2. Fúziókor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zigótába csak az egyik ivarsejt organellumai jutna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yitvatermõknél a kloroplasztiszt a hím gaméta, a mitokondriumot a nõ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améta viszi a zigótába (ezért nem is lehetnek szûznemzõ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Páfrányoknál a spermium citoplazmája nem jut az utódb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3. A zigótában fúzió utá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gysejtûeknél a  heteroplazmikus (mindkét szülõtõl vannak organelluma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zigótából néhány osztódás után homoplazmikus (csak egyféle szülõtõl vannak organellumai) sejtek lesznek (pl. 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Saccharomyce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élesztõ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gyik szülõtõl származó citoplazmatikus organellumok vagy organellumDNS destrukciójával vagy eliminációjáv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Chlamydomona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algákban izogámia van, + és - párosodási típusokkal. A zigóta mindkét féle szükõtõl örökli a mt-t, de csak + típus marad me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1705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éhány alapvetõ és általános jellemzõ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a szexuálisan szaporodó moder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élõlények túlnyomó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öbbségében megtalálha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 Meiotikus ivarsejtképzõd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. Haploid-diploid ciklusok váltak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. Rekombináció és crossing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 Szingámi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eno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úzi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5. A sejtorganellumok uniparentális örök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ináris szexuális rendszer (két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va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 Anizogámi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 "hím" és "nõi"  ivarsejtek eltérõ mére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8. Dimorfizmus morfológiában, viselkedés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uniparentalitást biztosító különféle mechanizmusokat szinte minden esetben nukleáris gének irányítják. Az egyes típusok azonban nem köthetõk taxonokhoz, a magvas növények fajai pl. minden említett mechanizmusra szolgáltatnak példá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Vannak rendszerek, ahol több szinten is redukálódik a biparentalitás esély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mlõsöknél pl. a spermiumban nagyon kevés citoplazma (és mt) van, és ezek közül is nagyon kevés jut a zigótába, fúzió után pedig még ezek is degradálódna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7451640" cy="552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bináris nemi rendszer kialaku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hol van szexualitás, ott szinte mindig két párosodási típus (iva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Bináris rendszer két módon alakulhatott k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1.  párosodási típusok hiányából alakult ki kétféle típ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2.  sok párosodási típusból redukálódott kettőv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elsőt sok elmélet magyarázza, mind a citoplazmatikus konfliktusokk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szex vagy bináris, vagy nincs, de sohasem sokszo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z nagyon korrelál a citoplazmatikus fúzió meglétével vagy hiányáv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42116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Két fő elméle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. A bináris rendszer a zigótán belüli citoplazmatikus gének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konfliktusai miatt jött lét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B. A bináris rendszer a citoplazmatikus paraziták miatt jött lét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(Hurst 199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A bináris rendszer a zigótán belüli citoplazmatikus gének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konfliktusai miatt jött létre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(Hurst-Hamilton m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dell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1. Nincs párosodási típus, CP tartalom biparentálisan öröklőd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zogám,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lamydomona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szerû lény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2. Megjelenhetnek és elterjedhetnek mutáns kompetíciós képességek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Killer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lp+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allé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3. Ha ez a CP-konfliktus a nukleáris géneknek kedvezőtlen,kifejleszthetnek konfliktus-csökkentő mechanizmusoka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(szupresszor gé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4. Reciprok preferenciát biztosító mechanizmus (choosy gén) elterjedhet, optimális párzást biztosí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(gátlás kötség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random párosodást feltételezve a rendszer mind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ig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bináris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rányba mozdul el, ahol 1:1 a párosodási típusok arány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A bináris rendszer a citoplazmatikus paraziták miatt jött létr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1. Nincs párosodási típus, biparentális CP-örökí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CP paraziták horizontálisan terjedhetnek, fittness-csökkentő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2. Megjelennek saját-CP-átadást gátló génes mutáns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3. Mutáns-nem mutáns párzás optimál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utáns-mutáns halá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nemmutáns-nemmutáns alacsonyabb fitness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4. Reciprok preferenciát okozó gének elterjedhetn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5. Bináris rendsz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 tehát a szex gametikus fúziót feltételez, akkor az élőlényeknek nukleáris leszerelõ-géneket / CP-átadást megakadályozó mechanizmusokat kell kifejleszteni, hogy a CP gének konfliktusát / CP-paraziták hatását megelõzzé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ármilyen páros gametikus fúziónál kell lennie egy aszimmetriának ebben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onfliktus- leszerelésben, ez az aszimmetria lehet az oka a nemek köz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lapvetõ aszimmetriának, és a nemek bináris jellegéne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citoplazmafúzió és bináris rendszer kapcsolata jól látszik az inkompatibilitási rendszerekné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Inkompatibilitási rendszerek: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ülönbséget kell tenni a nemek (amelyek fúziós párosodási rendszere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és az inkompatibilitásos párosodás-típusok közöt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ettõnél több típus lehet, melyek mindegyike a többi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özül meghatározott típusokkal párosodhat, másokkal viszont nem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em játszódik le citoplazmafúzió, csak magcsere (konjugáció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lyen rendszer van a legtöbb csillósnál, bazídiumos gombákná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Hypotrich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csillósok: konjugációkor sok párosodási típus, fúziókor csak kett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Peritrich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csillósok elvesztették a konjugációt, fúziós géncsrére tértek át, csak két nem v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643280" cy="345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471636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Kettõnél kevesebb "nem"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Physarum multicephalum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nyálkagomba plazmódiumos (nem gametik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úziójánál egyáltalán nem ismertek szaporodási típuso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Kettõnél több nem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cp fúzióval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Physarum multicephalum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haploid gamétáinál bármelyik típus 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ármelyikkel fuzionálni, ameddig három polimorf mitokondriális lókuszon genetikai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em identikusak.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Mitokondriumok örökítõdése mégis uniparentáli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lineá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ominanciasorrenddel. Posztfuzionális uniparentalitás van és mitokondriális gén alap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kompatibilitási rendszer. Ilyen rendszer valószínűleg sokkal sebezhetõbb az önz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enetikai elemek által, mint a fúzió elõtt már aszimmetrikus rendszerek (pl mif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lazm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lőnyben van a gaméta, amelyik el tudja kerülni az önző gének problémáját prefuzionális aszimmetria kifejlesztésével. Az esetleges többszörös nemi rendszerek így könnyen bináris típusúvá alakulhatna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z is a konfliktus-leszerelés fontosságát hangsúlyozza a bináris rendszer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ialakulásába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6948360" cy="5211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gaméták méretbeli differenciálód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konfliktus-leszereléssel járó eltérõ párosodási típusok elõnyeibõl még nem következik automatikusan a gaméták eltérõ mére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Mi lehet akkor az anizogámia okainak magyarázata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Parker-Baker-Smith modell (PB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Pártalálás elősegít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kis méret előny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rokariótában is van génkicserélődés (aszimmetrik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ukarióta és prokarióta szex: molekuláris szinten megfigyelhetõ bizonyos folytonosság a rekombinációs és DNS-javító enzimekb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ai modern szexualitáshoz vezetõ lényeges újítások mind eukarióta egysejtû élõlényekben játszódhattak 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zex  kb. 1 000 000 000 é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dddddd"/>
                </a:solidFill>
                <a:latin typeface="Times New Roman"/>
              </a:rPr>
              <a:t>                 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7776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hu-HU" sz="2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hu-HU" sz="2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Parker-Baker-Smith modell (PB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gyféle méretû, + és - párosodási típusú gamétákból álló populációban egy ki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amétákat termelõ mutáns egyed elõnyös, mert kis befektetéssel (kicsi méret)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ok proto-nõivarsejtet tud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egtermékenyíteni. (parazitálja a másik féle sejte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efektetését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 viszont a zigóta túlélési esélye nõ a gaméta méretével, úgy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gy csupa kis (+) gamétából álló populációban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lõnyösek a nagyobb, szesszilis gamétá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étféle szelekció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tás (diszruptív szelekció) van, egyik nagy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éretnek kedvez (jó zigótatúlélés, fejlesztési eszköz), másik a nagy számna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nagyobb gamétaszám, jobb megtermékenyítési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sély, fertilizációs eszköz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z a szelekció viszont csak akkor mûködhet, ha a kisebb gamétaszám miatti hátrányt a nagyob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zigótatúlélés elõnye túlszárnyalj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pártalálás elõsegíté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elõzõ modell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permakompetíciót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több + típus, mint -) feltételez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Levitan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szerint viszont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permalimitáció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viszonyok vezethettek az anizogámia létrejöttéhez. Ilyen körülmények között a találkozás-segítõ folyamatok vezethetek dimorfizmushoz. Ilyen adaptáció lehet a petesejt növekedése, a"nagy céltábla-biztosabb találat„ elve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engeri uborkáknál a nagyobb tojások fittebbek, de a nagyobb találkozási ráta n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llensúlyozza azt, hogy ez esetben kevesebb (de nagyobb) petesejt v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pártalálás módjának másféle elõsegítése lehet a spermavonzó feromon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lkalmazása. Ez esetben, ha a feromon-hatósugár arányos a termelõ sej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érfogatával, akkor megéri nagynak lenni (és nagy illatfelhõt csinálni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3. Miért  kicsi a sperma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permakompetícióban a nagy szám miatt (PBS) elõnyös, esetleg lehet a gyorsabb mozgás miatt is (de spermalimitációnál a hosszabb életûnek jobb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ásrészt szelekció hathat a kis méretre amiatt is, hogy az organellum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és citoplazmatikus paraziták örökíthetõsége kicsi legyen (kevés cp legyen, lásd előbb).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szex és a fajok termész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Általánosan elfogadott elképzelés, hogy a diszkrét fajok léte a  szexuális szaporodás következmény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forráskontinuum-kihasználás nem folyamatos, a reproduktív izoláció akadályozza meg a korlátlan génáramlást, és teszi lehetővé az elkülönült fajok létezésé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lonális (parthenogenetikus) fajok kisebb elkülönülést mutatnak, mint a szexuálisa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urópai Alchemilla palástfüvek szűznemzők. Kb. 300 morfológiai változata van, amik néhány klón nem nagyon különböző változat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A Bdelloidea kerekesférgek megint renitens kivételek, mert ugyanolyan jó morfológiai különbségeket mutatnak, mint ivaros rokonai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hol az ivaros fajok nem mutatnak jó elkülönülést, ott valószínűleg még telt el elég idő a földrajzi elkülönülés után.</a:t>
            </a:r>
            <a:r>
              <a:rPr b="0" lang="hu-HU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3080" y="486900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vé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lehetséges forgatókönyv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 Kezdetben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ploidi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ploid-diploid ciklu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endomitózissal és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gylépéses meiózissa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. Haploid-diploid ciklus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genomfúzióva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s egylépéses meióziss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. Genomfúzió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étlépéses meiózissa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rekombináció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Uniparentalit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ét különbözõ párosodási tí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éretbeli anizogámi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nizogámia következménye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szexuális szelekció alatt álló jellegek)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Valamiképpen mindegyik evolúciós újítás előnyt jelentett a nem innovátorokkal szemben, ezért elterjedhettek, és máig megőrződt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haploid-diploid ciklusok elõny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lyen ciklus már a rekombináció feltalálása elõtt is létezhetet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ezdetben endomitózissal történik a haploid-diploid ciklus váltakozása, összeolvadás és crossing over nélkül nélkü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Barbulanymph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ostorosok, S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accharomyc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élesztõ ma is csiná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romoszóma-párosodás és a crossing over szabályozása külön géncsoportokkal történik  ma 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728964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Ökológia okokkal magyarázható: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 a ploidiaszint meghatározza az ellenállóképességet és a környezet változékony, akkor ökológiailag elõnyös lehet a ploidia-váltakozá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Pl. oxidatív korai légkör DNS-károsodást okozó mértéke váltakozi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Olyan élõlényeknél, ahol nincs mitokondrium és peroxiszó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Archezoá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) elõnyös lehet egy ellenálló genomi állapo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ámos tény mutatja, hogy a diploid formá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llenállóbbak lehetnek (pl. élesztõgombá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0360" y="3789360"/>
            <a:ext cx="26956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Ha a diploidia ilyen nagy elõnyökkel jár, akkor miért kell a haploidiá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visszatérni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1. Haploid állapotban fele akkora a genetikai teh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diploidokban dupla a genomra vonatkoztatott mutációs ráta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2. Haploid állapotban fele annyi szelektív halál szükséges eliminálni a káros mutációkat a populációból, ha a mutációk részben recesszívek (diploidnál a csak hordozó heterozigótákat is ki kell szelektálni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zért a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haploid szakaszban hatékonyabb a káros mutációk elle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tisztító hatá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7020000" cy="5266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génfúzi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zingámia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elõny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3800" indent="-343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Haploid-diploid ciklus lehetséges edomitózissal i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-343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Mégis (szinte) kizárólagos a fúzióval való diploidizálódá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-343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 a káros mutációk recesszívek, a szingámia elõsegíti a hibrid vigor elõnyét, és jelentõs szelekciós elõnyt biztosí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Bizonyított, hogy a legtöbb káros mutáció biokémiai okok miatt (részben) recesszív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-343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ndomitotikus diploidizálódásnál a keletkezõ DNS másolatok tökéle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ópiák, a hibás alláleket nem tudja elfedni a keletkezõ másik ugyanolyan hibás all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-343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ickey és Rose alternatív hipotézise szerint a fúziót endoszimbionta parazita vagy egyéb önzõ genetikai elem váltotta ki, saját horizontális terjedését segítend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pl.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Physarum nyálkagomb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mitokondriális mif+plazmidja vagy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F plazmidja,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14:29:02Z</dcterms:created>
  <dc:creator>Viselkedésökológiai Kutatócsoport</dc:creator>
  <dc:description/>
  <dc:language>en-US</dc:language>
  <cp:lastModifiedBy>Szabó Krisztián</cp:lastModifiedBy>
  <dcterms:modified xsi:type="dcterms:W3CDTF">2008-04-23T23:45:47Z</dcterms:modified>
  <cp:revision>108</cp:revision>
  <dc:subject/>
  <dc:title>Nagyobb lépések a szexualitás evolúciójában</dc:title>
</cp:coreProperties>
</file>