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4463-BA24-4996-B8FA-B62BA26C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C737-3125-4EF6-82D9-C8F18041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4A89-04AA-4BBC-8808-5B0782EE4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F84B-3378-4F45-9FE7-AB9976B1D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6F01-99BC-4642-80D2-EF351119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ECDC-2E0F-4931-9FEC-D502CA50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8128-E57C-4833-9C32-024734C3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CF31-EC59-4CD9-B49E-5B1DA0E5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546E-F094-49F9-AABF-FEF594D1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C012-E2F0-4919-A057-34ACB659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B6F8-3C72-47CC-BCD6-B9789522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C033-DFE4-4962-A370-220C65A7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E2C2-8C0F-4CA9-A27C-3C7F6FA4B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13320" y="0"/>
            <a:ext cx="46306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0"/>
            <a:ext cx="662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Times New Roman"/>
              </a:rPr>
              <a:t>Miről lesz szó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60" y="1208160"/>
            <a:ext cx="610128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000" spc="-1" strike="noStrike">
                <a:solidFill>
                  <a:srgbClr val="000000"/>
                </a:solidFill>
                <a:latin typeface="Times New Roman"/>
              </a:rPr>
              <a:t>Szexuális szelekció</a:t>
            </a:r>
            <a:br>
              <a:rPr sz="3000"/>
            </a:br>
            <a:r>
              <a:rPr b="1" lang="hu-H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000" spc="-1" strike="noStrike">
                <a:solidFill>
                  <a:srgbClr val="000000"/>
                </a:solidFill>
                <a:latin typeface="Times New Roman"/>
              </a:rPr>
              <a:t>Alternatív szaporodási fe</a:t>
            </a:r>
            <a:r>
              <a:rPr b="1" lang="hu-HU" sz="3000" spc="-1" strike="noStrike">
                <a:solidFill>
                  <a:srgbClr val="ffffff"/>
                </a:solidFill>
                <a:latin typeface="Times New Roman"/>
              </a:rPr>
              <a:t>notípuso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880" y="1197000"/>
            <a:ext cx="3510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000" spc="-1" strike="noStrike">
                <a:solidFill>
                  <a:srgbClr val="000000"/>
                </a:solidFill>
                <a:latin typeface="Times New Roman"/>
              </a:rPr>
              <a:t>Szülői aktivitá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000" spc="-1" strike="noStrike">
                <a:solidFill>
                  <a:srgbClr val="000000"/>
                </a:solidFill>
                <a:latin typeface="Times New Roman"/>
              </a:rPr>
              <a:t>Párzási rendszere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662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Times New Roman"/>
              </a:rPr>
              <a:t>Miről lesz szó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154560" y="0"/>
            <a:ext cx="298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22560" y="0"/>
            <a:ext cx="522144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0"/>
            <a:ext cx="662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Times New Roman"/>
              </a:rPr>
              <a:t>Miről lesz szó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645000"/>
            <a:ext cx="853272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000" spc="-1" strike="noStrike">
                <a:solidFill>
                  <a:srgbClr val="000000"/>
                </a:solidFill>
                <a:latin typeface="Times New Roman"/>
              </a:rPr>
              <a:t>Ivardeterminációs me</a:t>
            </a:r>
            <a:r>
              <a:rPr b="1" lang="hu-HU" sz="3000" spc="-1" strike="noStrike">
                <a:solidFill>
                  <a:srgbClr val="ffffff"/>
                </a:solidFill>
                <a:latin typeface="Times New Roman"/>
              </a:rPr>
              <a:t>chanizmuso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Times New Roman"/>
              </a:rPr>
              <a:t>Ivararányo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063960" y="0"/>
            <a:ext cx="608004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320" y="3933720"/>
            <a:ext cx="704628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000" spc="-1" strike="noStrike">
                <a:solidFill>
                  <a:srgbClr val="000000"/>
                </a:solidFill>
                <a:latin typeface="Times New Roman"/>
              </a:rPr>
              <a:t>A humán szexua</a:t>
            </a:r>
            <a:r>
              <a:rPr b="1" lang="hu-HU" sz="3000" spc="-1" strike="noStrike">
                <a:solidFill>
                  <a:srgbClr val="ffffff"/>
                </a:solidFill>
                <a:latin typeface="Times New Roman"/>
              </a:rPr>
              <a:t>litás evolúciój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000" spc="-1" strike="noStrike">
                <a:solidFill>
                  <a:srgbClr val="000000"/>
                </a:solidFill>
                <a:latin typeface="Times New Roman"/>
              </a:rPr>
              <a:t>A homoszexualit</a:t>
            </a:r>
            <a:r>
              <a:rPr b="1" lang="hu-HU" sz="3000" spc="-1" strike="noStrike">
                <a:solidFill>
                  <a:srgbClr val="ffffff"/>
                </a:solidFill>
                <a:latin typeface="Times New Roman"/>
              </a:rPr>
              <a:t>ás adaptácionista teóriá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000" spc="-1" strike="noStrike">
                <a:solidFill>
                  <a:srgbClr val="000000"/>
                </a:solidFill>
                <a:latin typeface="Times New Roman"/>
              </a:rPr>
              <a:t>A nemiség  a hu</a:t>
            </a:r>
            <a:r>
              <a:rPr b="1" lang="hu-HU" sz="3000" spc="-1" strike="noStrike">
                <a:solidFill>
                  <a:srgbClr val="ffffff"/>
                </a:solidFill>
                <a:latin typeface="Times New Roman"/>
              </a:rPr>
              <a:t>mán társadalmakb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0" y="4221000"/>
            <a:ext cx="31464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662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Times New Roman"/>
              </a:rPr>
              <a:t>Miről lesz szó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0592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Definíció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096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Ivaros (szexuális) szaporodás (gamogónia)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Mindig meiotikus haploid gamétákk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Meiózisban rekombináció és crossing over az elődgenomok közöt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gysejtűeknél pl. konjugáció, autogám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Ivartalan (aszexuális) szaporodás (agamogóni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Nincs meiózis és rekombináció, a genom változatlanul, telj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gészében az utódba kerül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gysejtűeknél pl. mitotikus osztódás, bimbózá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Többsejtűeknél pl. bimbózással vagy spórákkal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Indás (klonális) növény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851280" y="549360"/>
            <a:ext cx="4648320" cy="4276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348000" y="2349360"/>
            <a:ext cx="544032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Parthenogenezis vagy szűznemzés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Meiotikus gamétával, de nincs megtermékenyítés és rekombináció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Szórványos (sok taxonná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Fakultatív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Geográfia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Haplodiploidia: Arrhenotokia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Hymenopte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Teliotokia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Pajzstetve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mfitok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Obligá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szezonális, ciklikus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kerekesférgek, rákok, levéltetve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Gynogenezis, merospermia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: spermium csak indukál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Ezüstkárás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ndrogenezis, merogónia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: csak hím genom kerül az utódb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979640" y="260280"/>
            <a:ext cx="4702320" cy="6381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979640" y="260280"/>
            <a:ext cx="4689360" cy="6380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979640" y="260280"/>
            <a:ext cx="4689360" cy="63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Génszelekció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szelekció egysége és alanya a gén (kapcsoltan öröklődő genetikai komponense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Fitness (rátermettség, W):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genetikai anyag evolúciós képessége a megőrződésre. Jó fitness: sok utód létrehozásával génjeit nagy számban sikeresen továbbadj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Egyedi fitness: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Képesség életképes utódok létrehozásá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Inkluzív fitnes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Inkább gének, mint utódok száma a következő generációba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Rokonszelekciót feltételez, miszerint a gének túlélése a rokonok túlélésétől is függ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Fekunditá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z egész élettartam alatti szaporodási képesség, a fitness összetevőj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Fertilitá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Termékenység, adott időpontban mérhető reproduktív potenciá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Trade-off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Csereviszony. Ha az egyik aktivitásba történő befektetés a másik rovására történik, mert az állat forrási végese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0"/>
            <a:ext cx="874872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Crossing over: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ploid gaméták keletkezésekor (meiózis) diploid sejt genomja széttöredezik, a két szülő homológ kromoszómái anyagot cseréln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Rekombinác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létrejött vegyes kromoszómák véletlenül kerülnek egyik vagy másik gamétáb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627280" y="1557360"/>
            <a:ext cx="4702320" cy="2273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916360" y="5013360"/>
            <a:ext cx="431964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Szex = rekombináció (génkutyulá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génkutyulás formá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szimmetrikus szexuális folyamato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genom egy része átvivődik egy másik genomb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Prokariótáknál csak ez, de nagyon variábilis az előfordul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ukariótáknál ritká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- Transzdukció (vírus vagy fág visz genomrészt sejtből sejtb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- Transzformáció (baktérium genomot vesz fel a környezetbő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- Konjugáció (génátadás direkt sejt-sejt kontaktussa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Szimmetrikus szexuális folyamato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Két genom fuzionál (szingámia), majd szeparálódik (meiózi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Csak eukariótákná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Szex kb. 1 000.000.000 é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479840" y="3048120"/>
            <a:ext cx="199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60000" y="1844640"/>
            <a:ext cx="66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Times New Roman"/>
              </a:rPr>
              <a:t>A szexualitás evolúciós teóriá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7240" y="3666960"/>
            <a:ext cx="292248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Times New Roman"/>
              </a:rPr>
              <a:t>Szabó Krisztiá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kr.szabo@g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zexualitás hátrány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Miért kockáztasson az egyed azzal, hogy génjeit más egyedével összekeverj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ivarosan szaporodó élőlények számos igen komoly és sokféle hátránny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írnak a szexualitást nem alkalmazókkal szembe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izonyos folyamatok energiaigényesek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eiózis, udvarlás, harc, stb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Párkeresés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költsége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gy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, esélye kicsi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ehet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(főleg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órványos populációkba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Szexuális szelekció vezethet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szexuális konfliktushoz,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ladaptív jellegekhez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yilkos fegyverek),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ruktív kompetícióhoz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Szexuálisan terjedő betegségek,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 parazitikus genetikai elemek terjedését megkönnyí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 létrejött előnyös génkombinációkat a rekombináció „széttöri”.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ploid és többszörösen heterozigóta genotípusok nem lehetségese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6. A meiózis dupla költség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z ivaros utód a szülő génjeit csak fele arányban tartalmazza, míg ivartalan úton 100% a genetikai egyezés utód és szülő közöt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7. Hímek dupla költsége.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-A szexuális szaporodás egysége a pár, míg aszexuális esetben az egy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-Csak nőstény populáció szűznemzéssel dupla annyi utódot tud potenciálisan létrehozni, mint amikor hímek is vannak (és egyenlő az ivararány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-A populáció növekedési sebessége sokkal kisebb, mivel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fele annyi nőivarsejt van a populációba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 költségek ellenére az élőlények óriási többsége ivaros úton szaporodik, legalábbis alkalmila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A szex paradoxonja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411280" y="260280"/>
            <a:ext cx="4689720" cy="6380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411280" y="260280"/>
            <a:ext cx="4689720" cy="63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334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zexualitás előnyeinek teóriá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yon nagy egyéb előnyökkel kell szolgálnia a szexuális szaporodásnak,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gy ezeket a hátrányokat ellensúlyozza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öbb, mint 20 teóri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 van (genetikai és ökológiai), a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fontosabba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A változás és alkalmazkodás elősegíté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rányító szelekció esetén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 változás megakadályozása, a status quo fenntartása (stabilizáló szelekció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Egyéb előnyök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et hangsúlyozó elméle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áltozás és alkalmazkodás elősegítése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rányító szelekció eseté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81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Lényege: Új, előnyös tulajdonságok létrehozása és elterjedése 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rekombináció segítségével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Genetikai megközelítésben: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5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 rekombináció lehetővé tesz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5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520" indent="-281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Rátermett allélek (beneficial mutations) koncentrálódását egyes egyedekben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520" indent="-2815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Fisher: Aszexuális populációban a mutációk nem kombinálódhatnak, jó allél  be van “szorulva” a szomszédai közé, a rekombináció segíthet “megszökni” neki, és más jó allélekkel összehozni, jó egyedekben felhalmozódn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520" indent="-2815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Gének sikeressége függetlenedik más allélek sekerességétől (háttér-fitnes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5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5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2. Új genotípusok létrehozását és elterjedésé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Ökológiai megközelítésben: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 rekombináció segíti új génkombinációkkal a változó környezethez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történő hatékony alkalmazkodást (adaptív radiáció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Ha a populáció állandó környezetben él, úgy a radiáció lassú. De ha a népességben a mortalitás fő oka valamilyen gyors változás, abban az esetben a szexualitás, és az ezzel járó gyors válaszképesség a környezet változásaira igen előnyös lehe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éngyakoriság állandóan változik.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dott pillanatban előnytelen allélok a jövőben még előnyösek lehetnek,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kombináció segít megőrizni, újrakeverni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„elővehetők” lesznek később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33cc"/>
                </a:solidFill>
                <a:latin typeface="Times New Roman"/>
              </a:rPr>
              <a:t>Sorsjegy, gö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880" y="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he queen of problem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476360" y="1773360"/>
            <a:ext cx="6696000" cy="41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67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Vörös Királynő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méle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t (Hamilton):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ziták alapvetőek a szexualitás kialakulásában és fenntartásába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Ők lehetnek a „gyors környezet”, ezzel megfelelő szelekciós nyomást gyakorolhatnak gazdáikra.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exuális rekombináció hatékony ellenszer, mely állandó változásokkal (futás) lehetővé teszi a túlélést (egy helyben maradá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raziták okozta teher alól való kibújás nagyobb haszon, mint a szexualitás miatti reprodukcióspotenciál- csökkené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mmunfehérjék génjei nagyobb mutációs rátát mutatnak</a:t>
            </a:r>
            <a:r>
              <a:rPr b="0" lang="hu-H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ás enzimfehérjékhez kép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örszájúak és gerincesek génátrendeződési mechanizmusa az Ig-k affinitáséréséné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zita-mediált szexuális szelekció (direkt és genetikai hasz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 változás megakadályozása, a status quo fenntartása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tabilizáló szelekció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00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ényege: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áros és hibás gének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(deleterious mutations)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tékon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0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távolít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0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0600" indent="-300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ének nagy többsége stabilizáló szelekció alatt, lassú a mutációs rátáj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0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0600" indent="-300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zexualitás és az ezzel járó rekombináció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gyes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értelmezések szerint kifejlődhetett a genomban fellépő káros mutációk hatékony eltávolítása céljából i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0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0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0600" indent="-300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étféle modellel közelítik meg a jelensége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0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0600" indent="-300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tochasztikus modell: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üller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-féle racsn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0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0600" indent="-300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isztikus modell: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 m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ációs teher csökkentés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tochasztikus modell: 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üller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-féle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racsni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üller’s ratchet, 196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áros mutációk hatásának erőssége nem azok számától függ (nincs addíció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ncs mutációmentes egyed a populációban (legfittebbnek 1 káros)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, ezek utódai is öröklik a mutáció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racsni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kkor fordul egy foknyit, ha minden legfittebb egyed eltűnik a populációból (a legjobb fitnessű egyre rosszabb)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kombináció segít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ó allélek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rossz háttérfitnessű környezetből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ás jó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élekhez 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kerülését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em csak a legfittebbnek lehet legfittebb utódja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s populációkra iga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 hatások (pl. genetikai sodródás) a feltéte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NS vírusokra igaznak tűnik</a:t>
            </a:r>
            <a:r>
              <a:rPr b="0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71640" y="1042920"/>
            <a:ext cx="7705800" cy="5516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7080" y="260280"/>
            <a:ext cx="335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www.szexvajonmi.ini.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77724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isztikus modell: 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m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ációsteher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sökkentés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teória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Kondrashov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Mutációs teher: a pop. génállományában jelentkező káros mutációk felhalmozódása miatti fitness-csökkené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tációk hatása előfordulásuktól és frekvenciától füg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yhe hatásúak és additív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eső (trunkációs) szelekció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elektív halál: a sokmutációs egyedek tűnnek 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zex a mutációs teher variabiltásának növelésére kel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- variancia nagy, a rosszak kiszelektálódásával csökken, de a rekombinációújra megnöveli, mert lehetővé teszi, hogy néhány egyedbe kerüljön sok káros mutáció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kor lehetséges a mutációk gyorsabb purgálása,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gy szelektív halállal több káros mutáció tűnik el, mint aszexuálisban (ott W-variancia kicsi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gy populációkra is használható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m feltételez random hatásokat (nagy pop. ezeket semlegesíti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Egyéb előnyö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énhibák javítását lehetővé tesz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jlődési genetikai program újrabeállításait lehetővé teszi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tleg a szeneszcenciát kikerülendő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sillóso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kombinációval megelőzi a túl gyors evolúció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úl gyors alkalmazkodás káros lehet, mivel a rövid távú előnyök lehetnek sokkal kevésbé adaptívak, mint a hosszú távúak. A rekombináció az új génösszeállítások széttörésével megakadályozza a helyi, rövid idejű adaptáció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Hickey és Rose hipotézi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zexuális szaporodás kezdeti formája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(rekombináció és fúzió)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</a:t>
            </a:r>
            <a:r>
              <a:rPr b="0" lang="hu-H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önző genetikai elemek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övetkeztében alakult k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tikai elemek gazdasejtjeik vertikális szaporodása által korlátozva vannak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izontális átvitelt lehetővé téve sokkal gyorsabb terjedés, akár a gazdasejt kárára is (parazitikusan).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Felfedezett önző genetikai elem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F-plazmid génjei </a:t>
            </a: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E. Coliban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erjedést és átírást lehetővé tevő fehérjék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pilus) kódolnak. Nincs fúzió, piluson megy a gen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Physarum multicephalum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nyálkagomb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Plazmódium telep és izogám, haploid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mőboid ivarsejte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Mitokondrium </a:t>
            </a: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mif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plazmidj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mif-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és</a:t>
            </a: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 mif-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: nincs fúzi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mif+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és </a:t>
            </a: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mif-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: fúzió, rekombináció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utódmitokondriumok </a:t>
            </a: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mif+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a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Élesztõ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mt DNSben </a:t>
            </a: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ω lókusz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(intron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ω-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és </a:t>
            </a: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ω+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találkozásak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utódsejtekben </a:t>
            </a: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ω+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lókuszok. Van rekombináci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227640" y="189000"/>
            <a:ext cx="2286000" cy="1782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084720" y="2492280"/>
            <a:ext cx="2765520" cy="1782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227640" y="4869000"/>
            <a:ext cx="243864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80880"/>
            <a:ext cx="9144000" cy="57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Fúzió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kialakulásának hipotézis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hu-HU" sz="2200" spc="-1" strike="noStrike">
                <a:solidFill>
                  <a:srgbClr val="3333cc"/>
                </a:solidFill>
                <a:latin typeface="Times New Roman"/>
              </a:rPr>
              <a:t>Physarum multicephalum</a:t>
            </a:r>
            <a:r>
              <a:rPr b="0" i="1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plazmódiumban is lehet fúzió (csak testi, rekombináció nincs), ha 4 bizonyos lókuszon egyeznek. Ha nem, akkor nincs fúzió, vagy inkompatibilitási reakció van:</a:t>
            </a:r>
            <a:r>
              <a:rPr b="0" i="1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u-HU" sz="2200" spc="-1" strike="noStrike">
                <a:solidFill>
                  <a:srgbClr val="009900"/>
                </a:solidFill>
                <a:latin typeface="Times New Roman"/>
              </a:rPr>
              <a:t>Killer+ genom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(biz. alléllel) eliminálja a </a:t>
            </a:r>
            <a:r>
              <a:rPr b="0" i="1" lang="hu-HU" sz="2200" spc="-1" strike="noStrike">
                <a:solidFill>
                  <a:srgbClr val="009900"/>
                </a:solidFill>
                <a:latin typeface="Times New Roman"/>
              </a:rPr>
              <a:t>Killer- genom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-o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Rekombináció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kialakulásának hipotézis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Fúziókor nem kötelező a rekombináció, attól az önző elem még terjedhe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rekombináció lehet a </a:t>
            </a:r>
            <a:r>
              <a:rPr b="0" i="1" lang="hu-HU" sz="2200" spc="-1" strike="noStrike">
                <a:solidFill>
                  <a:srgbClr val="009900"/>
                </a:solidFill>
                <a:latin typeface="Times New Roman"/>
              </a:rPr>
              <a:t>Killer- genom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menekülése az eliminálódás elől, a magok kompeticióját és az ebből eredő esetleges végzetes következményeket megakadályozandó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Más kutatók szerint egyfajta előny nem elég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Pluralisztikus szemlélet ke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Különböző előnyök kombinációja vezethet nagyfokú sikerességh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Szex előnyeinek bizonyítás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Modellezés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Filogenenetikus kapcsolatok feltárásáv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35640" y="333360"/>
            <a:ext cx="3376440" cy="4508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79840" y="3048120"/>
            <a:ext cx="199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00" y="353880"/>
            <a:ext cx="423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 szex mindenkit érdek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0" y="2637000"/>
            <a:ext cx="514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 szex a biológusokat is érdek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360" y="4797360"/>
            <a:ext cx="66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 szex az evolúció-biológusokat is érdek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Legtöbb élőlény kétnemű, de vannak egyneműek, sőt nagyon sok neműek is (és ez nekik jó?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 hím imádkozó sáskát megeszik párzás után és ez neki jó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Egyes méheknél a királynőt megölik a dolgozók, ha nem a megfelelő hímmel párzott, és ez a bolynak nem ross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 függőcinege szülők az esetek kb. harmadában elhagyják a fiókáikat, akik megdöglenek, és ez nekik mégis megér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 homoszexuális viselkedésnek el kellene tűnnie, mivel szaporodási sikerük nulla (az emberi kultúrák 66 % ában megtűrt vagy támogatot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Sok társadalomban a félrelépő nőt keményen büntetik, a férfit nem, és ez bizonyos szempontból előnyö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Ma mintegy 16 millió ember tekinthető Dzsingisz kán utódának, és ez neki nagyon jó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96320" y="5013360"/>
            <a:ext cx="55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 négy probléma (Niko Tinberg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299736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ULTIMÁLIS (miért) KÉRDÉS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2997360"/>
            <a:ext cx="44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PROXIMÁLIS (hogyan)KÉRDÉS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8360" y="115920"/>
          <a:ext cx="7772400" cy="2060640"/>
        </p:xfrm>
        <a:graphic>
          <a:graphicData uri="http://schemas.openxmlformats.org/drawingml/2006/table">
            <a:tbl>
              <a:tblPr/>
              <a:tblGrid>
                <a:gridCol w="3846600"/>
                <a:gridCol w="39258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TOGENEZ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ogyan fejlődik ki?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OGENEZ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ogyan evolválódott?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CHANIZM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ogyan működik?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KCI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ért, mire jó?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50920" y="2338560"/>
            <a:ext cx="8642160" cy="440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250920" y="104760"/>
          <a:ext cx="8497440" cy="2171520"/>
        </p:xfrm>
        <a:graphic>
          <a:graphicData uri="http://schemas.openxmlformats.org/drawingml/2006/table">
            <a:tbl>
              <a:tblPr/>
              <a:tblGrid>
                <a:gridCol w="4206240"/>
                <a:gridCol w="4291200"/>
              </a:tblGrid>
              <a:tr h="103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TOGENEZ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ogyan fejlődik ki?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OGENEZ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ogyan evolválódott?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CHANIZM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ogyan működik?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KCI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ért, mire jó?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448080" y="0"/>
            <a:ext cx="56959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" y="3645000"/>
            <a:ext cx="616392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Times New Roman"/>
              </a:rPr>
              <a:t>A szexualitás költségei, előnyei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Times New Roman"/>
              </a:rPr>
              <a:t>A szexualitás kialakulásának teóriá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Times New Roman"/>
              </a:rPr>
              <a:t>A szexuális szaporodás alternatívái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662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Times New Roman"/>
              </a:rPr>
              <a:t>Miről lesz szó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693960" y="0"/>
            <a:ext cx="545004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662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Times New Roman"/>
              </a:rPr>
              <a:t>Miről lesz szó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0" y="1268280"/>
            <a:ext cx="638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Times New Roman"/>
              </a:rPr>
              <a:t>A szex evolúciójának </a:t>
            </a:r>
            <a:r>
              <a:rPr b="1" lang="hu-HU" sz="3000" spc="-1" strike="noStrike">
                <a:solidFill>
                  <a:srgbClr val="ffffff"/>
                </a:solidFill>
                <a:latin typeface="Times New Roman"/>
              </a:rPr>
              <a:t>nagyobb lépése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2T17:50:33Z</dcterms:created>
  <dc:creator>Viselkedésökológiai Kutatócsoport</dc:creator>
  <dc:description/>
  <dc:language>en-US</dc:language>
  <cp:lastModifiedBy>Szabó Krisztián</cp:lastModifiedBy>
  <dcterms:modified xsi:type="dcterms:W3CDTF">2008-04-23T23:33:45Z</dcterms:modified>
  <cp:revision>146</cp:revision>
  <dc:subject/>
  <dc:title>PowerPoint Presentation</dc:title>
</cp:coreProperties>
</file>