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21C-4068-4BFA-8061-89367E9E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0BA-ACE6-4B8A-A8E3-4FB4622C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BCF-D608-4D2C-BAD8-304CAF61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B31-FB5B-4F66-8E14-D529D6E3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C2B-902B-49B6-89A1-981D7F35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C20-49F6-48C6-AA3A-AC19B94B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016-82EA-4469-911F-29DAFAE5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F77-2304-49BE-AF17-AFB5BEAC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A11-24F3-4927-8D03-8256B41B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D00-03F7-417E-A2EB-42E65BB3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3C9-BAAA-420F-97C5-18146544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9AE-D3A6-4754-BE33-7641591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5CF-EE18-4CC0-9A61-3142A1ECB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320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vararán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5. Genetikai konfliktusok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uniparentálisan öröklődő organellumok és ivari kromoszómához kötött gének módosíthatják az eredeti ivardeterminációt (önző elemek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Érdekük: 100 % örökítő iv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öbbi gén érdeke 50-50% mindkét ivarból (fisheri arányokná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z a konfliktus igen nagymértékben befolyásolhatja az ivararányt (ivararány-torzítók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z eltérõ érdekek az ivararány-torzítókat szupresszáló genetikai elemek evolúciójához vezethetne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itoplazmatikus organellum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C paraziták, B-kromoszómá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eiotikus d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Wolbachia baktérium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ntracelluláris, anyai ágon örökítődő szimbionták/parazitá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ámos rovar, rák, fonalféreg a gazdá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tásuk a gazdára sokféle lehe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Hímölés (fertőzött nőstények fiait megöl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Feminizálás (hordozó hímeket nősténnyé tesz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Hímsterilizálás (hordozó nőstények fiait sterilizálj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Parthenogenetizálás (haploid hímet diploid, szűznemző nőstényé tes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6. Egyéb mechanizmuso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Hymenopter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estén néhány fajnál az arrhenotokia és CSD (egylókuszos ivardetermináns gén) együtthatása érvényesül (lásd később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z ivararány szabályozá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nak mechanizmus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plodiploidiánál lehetséges megtermékenyítéskor eldönteni az utód nemé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gasabbrendû állatoknál nem találtak bizonyítékot primer szabályozás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legtöbb állatban csak szekunder mechanizmusokkal; differenciális abortálással, adszorpcióval, születés utáni favorizálással (Pontos mechanizmus itt sem ismert.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eychelles-poszáta egytojásos fészkeket rak, és a kikelõ utód neme nagymértékben korrelál az éppen adott körülmények között "igényelt" nemm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clectus rorat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apagájok egy vagy két utódot nevelnek, és a nemarány sok esetben 20:1 is lehet a fiúk javá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brapinyteknél az elsõ lerakott tojás bizonyos körülmények között mindig nõsténynek bizonyult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daraknál feltételezik, hogy a megtermékenyített petesejt nemét érzékeli az anya, és eldönti, hogy letojja, vagy adszorbeálja-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Legbiztosabb módja az aránybefolyásolásnak: elsõ tojást a kívánt nemben rakják, utána pedig a véletlenre bízzák a többi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tojásos fészeknél nincs gond, de több tojásnál késedelem (napi egy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098880"/>
            <a:ext cx="2514600" cy="3759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234120" y="2438280"/>
            <a:ext cx="2909880" cy="441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666880" y="3352680"/>
            <a:ext cx="3417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övényi és állati ivardeterminációs rendszerek: nagy változatossá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ermafroditákban mikro- és makrogaméta funkció egy egyed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étlaki (dioecious, gonochoristc) fajoknál szeparált nem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öztük nagy variancia fenotipikusan és genetikai mechanizmusokb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étlakiaknál pl. haplodiploidia, apai genomveszítés, hím heterogamécia (XY), női heterogamécia (ZW), poligénes SD, TSD, st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mechanizmusok rokonokban is eltérhetn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ajon belül is lehet variancia (Xiphophorus maculatusnál XY és ZW 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D gének gyorsan evolválódnak, nem feltétlenül vesznek részt a rokon fajoknál SD-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iverzitás feltételezett oka: Genetikai konfliktus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lasszikus SD szemlélet a zigótákban ható mechanizmusok vizsgál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3 szinten hat szelekció a rendszer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ülői SR gének (szülőkben expresszálódnak, ivar-allokációt befolyásoljá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ülői SR hatások (szülőkben expresszálódó gének, zigótában hatn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zigotikus SD gének (zigótában expresszálódn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indegyik jó arénája a konfliktusokn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32000" y="4797360"/>
            <a:ext cx="6985080" cy="1792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58920" y="152280"/>
            <a:ext cx="705636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4005360"/>
            <a:ext cx="295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vé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ex allocation theor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sex-ratio theory, ivaribefektetés-teóri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arwin (1871 The Descent of Man and Selection in Relation to S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üsing (188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isher (1930, The Genetical Theory of Natural Se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harnov, Hamilton, Trivers, Clutton-Brock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aporodási döntés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rőforrásokból mennyit fordítsanak reprodukcióra saját túlélésük rovásá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ogyan osszák meg a szaporodásra szánt forrásokat az utódaik között, hogy a befektetésük a későbbiekben a lehető legnagyobb mértékben megtérüljön (Clutton-Brock és Godfray, 1991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bből adódóan a két nem felnevelésének költsége és reproduktív értéke különböző lehe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ülők szaporodási sikere az utódok ivararányának is függvény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dott ivarú utódok költségei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dott ivarú utódok haszna (W-visszatéríté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A. Fisher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súlyi elmé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3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nyiben a hím és nőstény utódok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létrehozásának és felnevelésének költsége, valamint reproduktív értéke a szülők számára azonos, akkor a szülői befektetés mértéke a két nemre nézve megegyező, és a várható ivararány 1: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 egyik ivar létrehozásának költsége alacsonyabb, de reproduktív értékük megegyezik, szelekció kedvez az ezt az ivart preferáló szülőkn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ségnyi befektetésre jutó nyereség magasab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kkor a kisebb arányban jelenlévő nem egyedeinek szaporodási esélyei nagyobbak leszn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szülők unokáik számát a ritkább ivarú utódok létrehozásával maximalizálhatjá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egatív gyakoriságfüggő szelekció stabilizálja az 1:1-es ivararány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ltérések 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z 1:1 ivararányt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ok taxonban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és populációban az ivararány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agymértékben eltér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z 1:1-es aránytó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ishernél a befektetés és a nyereség közötti kapcsolat lineár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z az egyenes arányosság számos esetben nem áll fen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em-lineáris kapcsolat esetén egyenlőtlen ivari allokációra lehet számítani (Charnov, 1979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ámos poligín madár és emlős esetében úgy tűnik, hogy a növekvő befektetés hatására a nyereség mértéke különbözik a hímeknél és a nőstényekné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ülői költségek, vagy az utódok reproduktív értéke (hozzájárulása a következő generációhoz) a két nemnél különböző lehet (Trivers és Willard, 1973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vararány-eltolódások és a differenciális ivari allokáció jelensége megfigyelhető a gerincteleneknél és a gerinceseknél egyará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elyi párzási versengé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Local mate competition, LMC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Hamilton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 1967 Extraordinary Sex Ratio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Általában olyan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ndogám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opulációknál alakul ki, ahol nagy a valószínûsége a testvérekkel való párzásnak,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pl.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tká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fügedarazsak,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arazitá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Versengő nemben direkt párzási kompetíció van a testvérek közöt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itness-visszatérítés lineárisan nő a nem-versengő utódok számáv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itness-visszatérítés nem nő a versengő utódok számával (minden újabb fiú egyre kisebb szeletet kap az összes megtermékenyítésbő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deális ivararány: csak annyi hím, amennyi az összes nőstényt meg tudja termékenyíteni, a többi nősté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smertek extrém nősténytúlsúlyú populáció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két nem eltérő adultkori viselkedése miatt a szülők különböző következményekkel számolhatnak a kritikus forrásokat tekintv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 Versengés a helyi forrásokér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Local resource competition, LRC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 a kritiku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orrások limitáltak, és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 különbözõ a fiak és lányok diszperziója (elvándorlás), a jobban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lvándorló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nembe fektetnek a szülõk többet, mert ezzel csökkentik a helyi kompetíciót (egymással és a szülõkkel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3. Lokális erőforrás-felerősíté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Local Resource Enhancement)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 fiak és lányok adultként különbözõ viselkedésük miatt eltérõen befolyásolják a szülõk források feletti kontrollját és kihasználását, akkor azt az ivart érdemes létrehozni, amely a szülők szempontjából kedvezőb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eychelles-poszátáknál az utódok egy része helper, fõleg a nõstények. A helperek csak bõség esetén jelentenek elõnyt, mert nagyban növelik az utódok felnevelési esélyét, míg rossz körülmények között csökkentik a szülõk ellenõrzését az amúgy is szûkös források felett. Rossz körülmények között a szülõk inkább fiakat, jó viszonyoknál lányokat csinálna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58920" y="476280"/>
            <a:ext cx="61722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4. Anyai kondícióelõny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Maternal Condition Advantage) 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Trivers és Willard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feltevése: Fiak és lányok reproduktív sikerét befolyásolhatja az anya kondíciója és a rangsorban elfoglalt hel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Érdemes eltolni az arányt az ivar felé, amelyik jobban profitál az anya jó kondíciójából. (pl. gímszarv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z az ivararány-szabályozás nagy hasonlóságot mutat a TSD-v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dolog általánosítható, pl. parazitoid darázs és prédá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daraknál és emlõsöknél fõleg az LMC, LRC és az anyai kondícióelõny mechanizmusai lehetnek a nem fisheri arányok oka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38336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4360" y="3933720"/>
            <a:ext cx="27306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6:22:40Z</dcterms:created>
  <dc:creator>VÖCS</dc:creator>
  <dc:description/>
  <dc:language>en-US</dc:language>
  <cp:lastModifiedBy>Szabó Krisztián</cp:lastModifiedBy>
  <dcterms:modified xsi:type="dcterms:W3CDTF">2008-04-24T01:07:36Z</dcterms:modified>
  <cp:revision>85</cp:revision>
  <dc:subject/>
  <dc:title>Ivari determináció </dc:title>
</cp:coreProperties>
</file>